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8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65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103.xml" ContentType="application/vnd.openxmlformats-officedocument.theme+xml"/>
  <Override PartName="/ppt/theme/theme123.xml" ContentType="application/vnd.openxmlformats-officedocument.theme+xml"/>
  <Override PartName="/ppt/theme/theme78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122.xml" ContentType="application/vnd.openxmlformats-officedocument.theme+xml"/>
  <Override PartName="/ppt/theme/theme77.xml" ContentType="application/vnd.openxmlformats-officedocument.theme+xml"/>
  <Override PartName="/ppt/theme/theme121.xml" ContentType="application/vnd.openxmlformats-officedocument.theme+xml"/>
  <Override PartName="/ppt/theme/theme76.xml" ContentType="application/vnd.openxmlformats-officedocument.theme+xml"/>
  <Override PartName="/ppt/theme/theme110.xml" ContentType="application/vnd.openxmlformats-officedocument.theme+xml"/>
  <Override PartName="/ppt/theme/theme99.xml" ContentType="application/vnd.openxmlformats-officedocument.theme+xml"/>
  <Override PartName="/ppt/theme/theme120.xml" ContentType="application/vnd.openxmlformats-officedocument.theme+xml"/>
  <Override PartName="/ppt/theme/theme75.xml" ContentType="application/vnd.openxmlformats-officedocument.theme+xml"/>
  <Override PartName="/ppt/theme/theme97.xml" ContentType="application/vnd.openxmlformats-officedocument.theme+xml"/>
  <Override PartName="/ppt/theme/theme116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</p:sldMasterIdLst>
  <p:notesMasterIdLst>
    <p:notesMasterId r:id="rId124"/>
  </p:notesMasterIdLst>
  <p:sldIdLst>
    <p:sldId id="256" r:id="rId125"/>
    <p:sldId id="257" r:id="rId126"/>
    <p:sldId id="258" r:id="rId127"/>
    <p:sldId id="259" r:id="rId128"/>
    <p:sldId id="260" r:id="rId129"/>
    <p:sldId id="261" r:id="rId130"/>
    <p:sldId id="262" r:id="rId131"/>
    <p:sldId id="263" r:id="rId132"/>
    <p:sldId id="264" r:id="rId133"/>
    <p:sldId id="265" r:id="rId134"/>
    <p:sldId id="266" r:id="rId135"/>
    <p:sldId id="267" r:id="rId136"/>
    <p:sldId id="268" r:id="rId137"/>
    <p:sldId id="269" r:id="rId138"/>
    <p:sldId id="270" r:id="rId139"/>
    <p:sldId id="271" r:id="rId140"/>
    <p:sldId id="272" r:id="rId141"/>
    <p:sldId id="273" r:id="rId142"/>
    <p:sldId id="274" r:id="rId143"/>
    <p:sldId id="275" r:id="rId144"/>
    <p:sldId id="276" r:id="rId145"/>
    <p:sldId id="277" r:id="rId146"/>
    <p:sldId id="278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notesMaster" Target="notesMasters/notesMaster1.xml"/><Relationship Id="rId125" Type="http://schemas.openxmlformats.org/officeDocument/2006/relationships/slide" Target="slides/slide1.xml"/><Relationship Id="rId126" Type="http://schemas.openxmlformats.org/officeDocument/2006/relationships/slide" Target="slides/slide2.xml"/><Relationship Id="rId127" Type="http://schemas.openxmlformats.org/officeDocument/2006/relationships/slide" Target="slides/slide3.xml"/><Relationship Id="rId128" Type="http://schemas.openxmlformats.org/officeDocument/2006/relationships/slide" Target="slides/slide4.xml"/><Relationship Id="rId129" Type="http://schemas.openxmlformats.org/officeDocument/2006/relationships/slide" Target="slides/slide5.xml"/><Relationship Id="rId130" Type="http://schemas.openxmlformats.org/officeDocument/2006/relationships/slide" Target="slides/slide6.xml"/><Relationship Id="rId131" Type="http://schemas.openxmlformats.org/officeDocument/2006/relationships/slide" Target="slides/slide7.xml"/><Relationship Id="rId132" Type="http://schemas.openxmlformats.org/officeDocument/2006/relationships/slide" Target="slides/slide8.xml"/><Relationship Id="rId133" Type="http://schemas.openxmlformats.org/officeDocument/2006/relationships/slide" Target="slides/slide9.xml"/><Relationship Id="rId134" Type="http://schemas.openxmlformats.org/officeDocument/2006/relationships/slide" Target="slides/slide10.xml"/><Relationship Id="rId135" Type="http://schemas.openxmlformats.org/officeDocument/2006/relationships/slide" Target="slides/slide11.xml"/><Relationship Id="rId136" Type="http://schemas.openxmlformats.org/officeDocument/2006/relationships/slide" Target="slides/slide12.xml"/><Relationship Id="rId137" Type="http://schemas.openxmlformats.org/officeDocument/2006/relationships/slide" Target="slides/slide13.xml"/><Relationship Id="rId138" Type="http://schemas.openxmlformats.org/officeDocument/2006/relationships/slide" Target="slides/slide14.xml"/><Relationship Id="rId139" Type="http://schemas.openxmlformats.org/officeDocument/2006/relationships/slide" Target="slides/slide15.xml"/><Relationship Id="rId140" Type="http://schemas.openxmlformats.org/officeDocument/2006/relationships/slide" Target="slides/slide16.xml"/><Relationship Id="rId141" Type="http://schemas.openxmlformats.org/officeDocument/2006/relationships/slide" Target="slides/slide17.xml"/><Relationship Id="rId142" Type="http://schemas.openxmlformats.org/officeDocument/2006/relationships/slide" Target="slides/slide18.xml"/><Relationship Id="rId143" Type="http://schemas.openxmlformats.org/officeDocument/2006/relationships/slide" Target="slides/slide19.xml"/><Relationship Id="rId144" Type="http://schemas.openxmlformats.org/officeDocument/2006/relationships/slide" Target="slides/slide20.xml"/><Relationship Id="rId145" Type="http://schemas.openxmlformats.org/officeDocument/2006/relationships/slide" Target="slides/slide21.xml"/><Relationship Id="rId146" Type="http://schemas.openxmlformats.org/officeDocument/2006/relationships/slide" Target="slides/slide22.xml"/><Relationship Id="rId147" Type="http://schemas.openxmlformats.org/officeDocument/2006/relationships/slide" Target="slides/slide23.xml"/><Relationship Id="rId1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PlaceHolder 2"/>
          <p:cNvSpPr>
            <a:spLocks noGrp="1"/>
          </p:cNvSpPr>
          <p:nvPr>
            <p:ph type="dt" idx="3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PlaceHolder 5"/>
          <p:cNvSpPr>
            <a:spLocks noGrp="1"/>
          </p:cNvSpPr>
          <p:nvPr>
            <p:ph type="ftr" idx="3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PlaceHolder 6"/>
          <p:cNvSpPr>
            <a:spLocks noGrp="1"/>
          </p:cNvSpPr>
          <p:nvPr>
            <p:ph type="sldNum" idx="3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73B6-D9F4-4E23-9D34-5804DB5E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23C5-C7EE-4ACE-9FB4-97E00843EF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01B-CB58-4B97-B19C-914CFCBD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1BD-5E47-4E72-8C82-C4710E3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7EA3B-EF2C-43E4-832B-49B6EF1D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E485007-992B-4D1F-AB18-46D8EF3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DC8D481-B6E3-4DC7-B310-3D70EF4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8080D70-CE51-45D7-9B31-53F194C9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48ECA41-DA3F-4F7E-B73A-02719496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600653B-7467-4545-BE0B-8FC7A488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147D1B8-4518-4D73-AC9C-B4EAA92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8B53EA1-0DE5-4448-A6CA-30A6E5BE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6972CDF-853B-44C1-9289-B066134A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00E4420-690D-45F2-851C-280F51D6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3AB3DE7-C9DB-4DF0-B969-C99F466A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3A432-40EB-435A-99A9-8FF0096A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52A444B-21AE-4599-A7E7-FB117EC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5437D5A-5100-438E-BC29-2726657F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0BA1892-1E8D-4515-8A8A-0F279753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8CFCC4D-A53E-467D-A215-7CB3D2EF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8DA5878-4BDF-4B39-BEA7-40E2B75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88DFF29-88A2-4FA8-82F1-412A2E8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2708EA2-1477-48B7-B3BC-A090F72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9E068AF-4A8E-4783-9D1F-D6FF39F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ED965AE-11D2-4BA2-886A-DA6B9F6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A5DEA68-5E3D-4608-8011-62085D31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39137-085A-41CA-A7E7-A0E84111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0D5C146-2272-4225-B748-264D9011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DF761B7F-A6E9-44E0-A436-3BF9E889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815D14F1-F77A-4A4E-806B-EBC5E0F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C57D4051-50AA-49C9-8892-3D2A4B5A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3DC47840-0F96-454D-816E-B670538C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654EBE37-FB12-459B-95A9-2A4BA57D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316A0E3E-659E-4729-8B0F-32713F2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7C6D364-A577-4AA3-90D2-BBC14D2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5C28E87-42C8-437C-8292-4FA8A2E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AD4B750-F2DD-4023-94AD-372365E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35B81-0CDA-4841-9C7F-7799013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86A9110-66D4-46B4-AAA3-0DBFF5FE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6B4E906-0CCC-4534-A502-AFDD751B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64DC3658-899E-47E9-985A-74CC2685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9D9181EA-75BE-448E-B887-F9141274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AA790A93-A96B-4316-A8B5-BFA5F075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9D9AAAB1-12CE-4F2D-83FA-23893B4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93BAA8E2-CAEE-48F4-BF8F-B2975DBF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8E97224B-0135-42F2-959E-45807FE3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FC05EDB8-3D7E-4C3D-9BC4-ACDB872D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26F5B85-4DA0-4EAE-A27A-2EFC9A2F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65CB8-6CC7-4A3A-AC69-CBFC836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119CAA1-4FAB-4B18-B345-6BEA005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0A647A56-90FA-44FE-8420-66EE803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A800670B-E777-4D0A-A3AC-6D7C1DE1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DE780439-F13D-4D70-B826-C6B14FB2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DE6D9299-77B5-4767-B4A3-DDC2A53A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785234FA-D5B6-4ED7-A5D3-30EBEECF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C2EF564B-6EB7-4546-B840-5523E67E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D5C5042F-4B89-4B46-BA89-2574EA30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5AD61CE1-790E-47AE-8351-B0075EE2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D4A5F685-F7D9-4AA5-80F6-51E5A86D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8BD61-B248-4EC0-9082-43DA7519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D17CD1D-74BB-4DEC-BAE9-EE2E1C91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F1EFFD00-4D6E-4E65-A104-B1CFF5FA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57449CBC-7ED7-4A41-B7AE-3F26758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76629AD-EF9D-4F2E-B7CA-D8B62215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58C2EB04-2B33-4D1E-B285-D63EBB9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E4C5E54-059E-4755-91DF-6CE183C0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46CCC52-2945-444C-8130-D437C258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CAE7F7B5-115F-4619-94F1-57FC5233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D7FACD6-A48B-465A-B4D2-2D5C688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CE3A243-888E-4DEF-8DF2-56F9584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53697-F667-4E6E-A426-6210BE8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28D54DFC-2CB3-4680-A87F-CBB05557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71ABAF67-DB3D-40ED-8A30-A38F2CF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76BFEFD-CC9E-486C-AD8F-31CD628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D9BBE9A-A0FE-423D-A759-B910755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9E12BC9-65AA-4437-B2A7-281F458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7C877A9-C1DB-40B0-A9D5-52FE388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9B2EC82E-7483-445B-80DE-B8C982E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2A484D0F-BE99-443C-9C59-23FCA30C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D03242E1-2A91-446F-ADDB-1E5B24AD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2D68D-CF03-4BDB-9FE0-4BF7C8B9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6042A-2FBB-4B8F-8B30-2A3A5E9F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18A29175-D504-4EDE-A61B-0F7D901B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4080A404-FF4E-4CEB-B8AF-5A9AC9D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2712CD1-F09B-46AA-99A8-6292FABB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F1275DC4-C260-4014-AE32-1F8D095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28ECF2EA-F291-499C-A626-9DC41857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6A8BA0D-3831-47EB-95EE-E2299EC0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1E53110-F139-4067-A517-37C73FD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8CB5A56-41CC-4A90-A0E4-CA6D8A9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4B62EF5B-7BE7-402C-B46C-A87EEF2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4196C-743C-400F-B87B-8C5EAA92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BA7D9EE-D3A5-4A2F-8457-7133C240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D5AD63F-122C-4498-8D3C-A1397488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EDE7FFB5-2936-492B-802F-D9B30758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95A0BD08-3054-4471-B9A5-927F61F7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C82D0EE6-E543-4AF5-8F41-3CA40A31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7AB7D550-1D5A-4660-B013-0BB6BA3B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63397338-E620-4913-92D2-82645B4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173397C-3F27-4F4D-9F56-8D1064C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04A1785F-7501-44FF-83CD-64810260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B2EAC1C-9FE7-495C-9EC5-2A8B724B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D15-9C45-47E8-AABE-7FFC752E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54CAA-9B04-4949-9592-51586F5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224E7077-FA7E-4DB7-97EB-2B6CAFC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EE48F57D-B6FB-4B47-B68B-78A7D13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55800FF3-85D5-49C3-BC67-20C26D76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00DFA10-A7F8-4D55-90E2-A8432F92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09DC857F-FA49-4B83-AC83-5D779B3D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654EA95-B752-4A17-B33A-4644C4A7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4DF9B2D-B669-438F-B578-B1478EE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F72CA76-E833-40EF-BD31-CD85A1AE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9006C32D-87CE-4AEF-9882-2D0DCD99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B4973D39-81D3-4090-90F6-A4C99BB0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C89DB-4A67-4A36-8700-16A0D4B7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271FE6FB-D64F-4FD1-B7D9-5BAD8DB4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A6E67D1-BE5C-464F-9CC9-A29A928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449CE91-B7AC-45BF-A69E-83BD828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BABC47F-36C3-41FC-91BC-5BF2F65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222D6A6-FCCA-4659-B308-09047B33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23CFB975-3B05-4273-9E2F-3A9E6296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2B1034A-DA0D-4CF0-AFE4-A4C265A2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9A357043-10B1-4496-B56F-94FDEFFB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44277F25-383E-4EBD-8A9F-16428560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88B7F660-D088-4956-9E94-4C6FF996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5BD6E-3A10-4DA2-89B4-FA2BD952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F1648058-35A1-4FD2-AA77-D5D034D4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EBDC8843-8B35-4733-A8B1-9FA7F62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56C6B342-F4B8-42FE-86C7-35F0805E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FFF0051A-A99E-4BD3-9A1D-708D543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7FC6270A-A543-473E-984D-BAD9D4F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BCED1172-73F3-455A-BF00-727BED6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58F37DF5-0E4C-4F92-AC94-45B161CD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839307BF-5BE0-43A0-824A-83987FEF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201674FA-0621-4F19-BEEC-6C275E27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4A0BB69B-BDA3-4500-A3E3-16C4BB21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E7289-7673-4167-9585-DCE8B1CD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49D166E5-E825-486D-B627-2D70AA0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C30D2CE7-8E3E-4A53-BA0B-1F5AFF0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4E8740FB-FD40-4B00-ABB4-743A86A6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D47DEC42-ECD4-45F0-8A8E-140D9C4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34F43393-BE28-4012-A954-27F08449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E5216DFF-02E2-49A8-85C6-A68E527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7616A643-948C-4C5E-8160-0A8469E4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1BB0331B-2318-48B7-8384-B47DA3F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BF9C5970-A840-4CEC-8755-7A689496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1CBC55F2-913A-40B8-B680-AAEFFE1C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D8933-BA6D-4788-8CC7-FB79F046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5EC59806-1DCD-42BB-A801-ADF66840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F0A92ACB-AAFB-44E7-8464-DDD0701C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FD999600-5039-4D43-96CB-07C31405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75AC94C5-CD99-4A31-867C-C46024C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76EAA68F-F163-4B08-BB7B-319C900B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92036C67-6857-45D6-80C4-AB7F8053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2A18CBB0-18A4-4716-8234-FBD68C60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82BC7522-DBC6-4464-A040-5FC8B13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26EEE6B0-DC2D-4F15-A874-B6C812D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A4C1E2BE-6D54-448B-ACD8-F4B4726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ACF6D-E3EC-42EE-9DF0-D8279B4C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E7E306CB-CC7A-4E66-BE41-46D645B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B295B823-E710-40F9-85BC-9DB10BC8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2AF9254D-82FB-488D-9514-221FA27A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098F4BE7-1FAB-4CDD-83A6-D3E2CAC2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0670E86-89E8-4ED6-892E-EECF9F24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D7E3E95-EDE9-4C36-AF74-B9807C43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9ACFA466-3CB0-4A9F-9EFA-CA3FE6BA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E05E785-3FDA-4E1D-98C3-52BD3B23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65C7A11-3CD5-4F57-AC89-C754276E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120846AF-7FF0-4CBC-824D-C75490F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FD457-1074-48FE-8DED-40633735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4797A201-62A3-4894-845A-8C0D6BF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FD9BE91-1485-4D10-9B2A-FEE6BCC7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E481E92-6861-445B-8069-E2A3EB9D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FC888C62-C708-4850-AF0A-B1927FFE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3E659517-4D4B-48B7-AED5-CFFE0F59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F08CE2EE-560B-4C8E-AB0A-0A262B7E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B3A935BF-1CB3-434D-BE82-62572BD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493A42AA-E304-4CDD-AF3B-58033780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441306C1-AF8A-418F-A490-F15B784D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5AEFF16C-A150-4D25-B484-4CE0F704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4D1E2-69F5-44B6-BBBC-E034C58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B9F57B79-ED21-4F2A-824B-D2B9D960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A0D8FC03-1292-43E3-9793-4EC4C6D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280557F0-4048-489C-AEED-844B67A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5869B238-CFB8-41FB-88B7-EBDCB04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6C521AB2-20E1-43E0-A4D8-845EEB36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424033F9-FF57-4395-821A-08A3581C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432DA580-057E-4CF8-A699-DA657E97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4D4CA4FD-A822-48D1-8981-ACA45F8F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581A7BBC-255C-4693-A7BA-DA66A722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78BC6039-1974-4EBA-AF50-81ED07BC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4E7D6-2416-414F-AF91-A55214E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ACFFC9C7-68F6-4F9D-955A-9D090084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9FA77121-2712-404A-8C76-BED9A8EF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2B57FBFB-4133-4C75-BF19-6F5917C4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A69FDFAD-2FE4-4497-A00A-09B1791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D75D8020-D439-4295-ABD5-72A54C1A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E7B84A35-480C-42CE-B924-A2A6E7B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6ED73D64-216A-4B30-8ED8-212E0E74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38E98F6F-108B-4F5A-A315-A5F83487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13809B68-1407-4305-B041-ADCB91E0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C29CB9C8-0EDF-40EA-9534-02F8D186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FB16D-0D1D-46B1-8211-64090703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0483F8AD-0591-4623-8D1F-22B84D2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C6AB3046-1430-4165-9EAD-43EF3AF2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B36DCA66-12F9-4219-8D98-612EDF49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D933F730-2BFB-4278-B5AF-F9125417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755780D4-0E87-4E10-8847-5F189FF1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8106273E-7CF3-4717-8618-2D8A839F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42AEA3B2-537E-4D5B-89E1-9D47CC34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100E81B4-8829-4ADE-9F57-8C6DCB8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3DA9820E-54BF-4D5C-A6F4-243774A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D9968A2A-F8BE-41DC-BD6D-9AC0EBE1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74A-A330-4EE2-8346-C7519D90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12FD8-0D28-41B2-B84C-8404A99D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2901E991-2135-4D3A-9ED7-32C00A90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44B7EC-FC1A-4FC5-AB5D-28451B2F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B784EB16-6421-4505-8A5A-3FBAB310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110C8BB7-09E6-4EAC-948A-D6B8553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22A61598-B7F1-4FCE-BAB7-58ADA895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BE100135-7D09-455C-9175-6654078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DC0EC9E3-0497-4031-88FE-50703FC0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225A72FA-70CB-4F8B-B058-F5535497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3B8ECB13-BAAA-484B-9F33-B5FD0A1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927518-5EC0-48E3-A064-C5C96D9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BBBAE45C-ED54-4EFF-8E83-5CA55726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3148DDE9-9C90-464E-97DE-F62940DB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1708B79B-10E8-44DF-83EA-BDC5733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6914E5DE-4980-4B58-9F87-C02D8933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25DC9FB8-C7A4-4F87-9A86-923F898F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E6051DC3-A764-455A-8124-CD8951BE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4C88597F-0C5D-4030-A6D4-9E23BF43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2AEF0213-61A2-4AD1-826A-39F746E6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C525C742-9C20-408A-926B-DB5F467A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BEF2196D-94C4-451D-986E-64058A04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3B20FD-45A8-416F-8A8D-C8B4A823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351BF849-1453-4EC4-923A-F90C7493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8613C95F-AAF4-4903-9D1A-C9FFD294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AFEAB029-C540-416D-8F90-525B0E8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43407A5A-C5BC-487D-9EA3-591C6E5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A2C05AD4-70EA-4FE4-ACE8-AEED071A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5DA46874-C69C-44CD-94EC-7726B3DA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B452284E-815D-4957-A323-C9A953C2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BD8FB54-2CFB-4AFB-847D-978D8CC6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A893B22-86B4-4046-A874-A2DEEB86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0EBDAE7-9055-49AF-AB36-BAB16478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99B36A-65AF-4EEA-B2C4-48995592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F49B635A-EB6F-4B5E-A966-F487737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BF617BE-D4A0-4609-8538-54821844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A15EB7C5-D42E-44AC-B6A0-870E0EC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BDBEEC8-9A7A-41A6-918C-95DA906F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089FECF-F9A8-4E97-B5D0-50D30F2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6F6B195-096A-4909-B35F-BF79D80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BE980C5-00B1-4054-99D2-D81A7D46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23F9A87-9D2A-425B-8FFC-18C638C7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BEADAED-833E-4DBB-AE96-10F9ECEA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C7D9B56-B5ED-451B-9CCC-03BB7353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7FD2FE-25AF-4829-ABA8-E235F712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BEA83C6-6AB5-464C-8253-A2444965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4B0BCE1-99FD-42E1-9E2E-C2B3530A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E98A871-7E52-45BF-B520-EF6DB0AA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84B07F4-6EB5-464A-9639-1B7C0164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D28FFB2-F5EA-49C4-A533-50E1ED9F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BBBABC9-C52D-433D-BEEB-4BEA300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2253279-690C-43DF-943A-5BB2A74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283A358C-5E65-40C3-8D13-DBAB5E14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A553DFA-C596-4601-A66E-76696D91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9EFFFE0-6C05-436B-8384-043620C1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D4EAEF-A68E-4FEC-BB8F-827D8BA9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1D420B2-BF6D-4582-9597-052FF66D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A21711E-9C33-428F-8DDE-64E7F747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915C753-4347-4998-A6B7-E116D6F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FF45A02-190D-48E6-B089-494DCDEA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3060702-8145-4CB8-9E0E-7A78B9B1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74A70FA-857B-49B8-9EC2-061B55CC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C95E628-BFD4-4DA1-8A3B-CDE2E8A9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02E39CC-D274-4690-AB5D-C7D9973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4F79A2DE-6B50-4327-AB96-1F710C3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3985C7C-9999-4AC9-BA91-01423FA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94BF7D-6B0C-4E80-A317-B9CF619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B710DC0-EC5B-4CA9-9514-7BDBA782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F933BE8-C722-477D-98FF-C58D210E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7E8B421-A738-49E9-8B76-E0C17556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4840DFA8-014C-40CE-BD55-DECA6528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CC95C556-A905-496A-8652-BCF84772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9B375A65-EDB7-42FF-89F6-4D826D2B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A8A2B180-74FC-4456-A724-B73F4F7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862A8846-8CA8-4B56-8433-1B9FFCA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D3E9FC85-92FF-4E4B-8BB2-F68AB3B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8D9D051D-3833-4F7F-A376-38349F8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666E0C-B7F2-4861-9FCE-3FDA992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AC9E61D7-FA82-4E69-8D82-920160DF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1D5CF432-D2D8-4217-9A63-D6F228F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D1BE4078-4AB7-431B-858D-E50D09B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D6CD3567-62F3-4E28-B795-9188000C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3565B3CF-FCE0-4C12-85D8-4762419A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E949411-0BE0-483C-A965-15B13FEA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FA4F8619-E75B-43F2-9EC3-75EA0F2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544D313E-3668-4DBB-A757-E652942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7A3257C8-DD9A-4F29-9243-EA290204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309F79ED-24D3-4BE3-93D4-79C4E690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EFE77E-C99B-45F6-AD0B-3AE8752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5ABB8F5F-14F5-436B-A1D8-AB5DD3C7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E67E5D5A-B134-47A7-A6BE-F0FA290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67D55529-7460-4E49-9563-9942E66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AA3667E8-977A-4281-B7BE-118E8F4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E67BE4DE-01C1-4C91-8E96-FB022D66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A4C50202-A384-4051-B1AF-38374FDB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92C46B0E-F03E-4F18-8FE8-5CFF8021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54DD1CDD-88BF-4340-9AC8-509CEDB3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BB2758B6-F165-4E8A-969C-88818E21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D6AA69C2-F34B-48CA-857E-D82C1934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019C-2218-43B0-B145-32A857B5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B324A8-55A4-4C4E-B86B-8524F47E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9CF787AB-1751-40DA-9E60-F6192A19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74572DC2-1D9D-4A0F-905F-D1ACE86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4822EB87-9CA6-4EC3-8B50-7BF86D8C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E53D9094-933B-40BB-860B-E85DF08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D1EDEC4B-A3B0-4385-B958-7BE9DCA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2E594E44-9579-4D5B-B5AA-7DFC7AA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3D597D15-7EDE-43B0-8B84-DD54C264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762D8D45-10C4-4614-A324-9F2A165D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6C8A417D-FCAA-4F03-A30D-D2E7BA3F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356A033C-AA0E-4E4E-B03A-638F444F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A73C59-2E78-414A-88E1-89BD9872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90AD94C1-AECD-486B-85A4-5C86A2D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2993305D-671E-411F-8151-2E623E79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2319C69C-84F3-4D51-9941-C505973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45F98BB7-1EE5-4840-AB18-1EB5CD13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DB4BC406-0E5A-48F4-A7A3-4BBAB795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BF6D9A92-B869-43FE-AD20-83F822A9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A0E23897-64C9-4D35-BC48-FDAEB65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B109CE50-02BD-4E41-BFA5-AE82112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C99204DC-1952-41E7-8640-2CE4F85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EE58E895-8BD0-48D6-B70B-C71A7C15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DFCAED-E2B7-45A9-8BB2-10214048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D0FC4928-7475-4D6B-AA60-AC6A53F2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370EBB60-8DDB-47C7-B964-DD0AE704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B92DE0A5-45C9-4DCD-93D4-A7256886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778215F0-4A64-4A4C-BEE9-140F979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0F9F1A4B-7A66-42B4-B6CB-BD97116B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45F48D91-7E55-44A8-BAEC-6A3E0154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913FC028-C2B6-4B32-9D97-62BBE21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670382AF-F520-41E1-9286-C99E92F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4FA74B98-96E5-4190-A104-4602E5D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D2824F92-122E-46E6-879F-EF7F513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ACDDD23E-09B4-4AE2-8E60-DF621918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0A4C1DB7-6AFA-417D-80FB-7FC5D5BC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FC1BC3C4-A5D8-427E-8967-7971721D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ABE6B138-9C41-4251-AD62-C6B90BBF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66D2A7A8-C112-40A9-A603-F2FCB36E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A7F16558-41A0-4606-B4E1-5262B06A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51C4C8B5-F901-485E-AA1A-17A272E0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301BD5CB-0468-4287-8F40-FC818DCE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C04C2E40-1CE5-4631-9F42-CBD9673C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C4A73B56-A959-45F1-B21B-9929357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B8DD276F-ED3F-410D-BCF9-16C903E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7E88F6E4-49AA-4521-8B20-14EDCF0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4A02CD5E-F4E8-4DDA-A572-7B960D8F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1E4B6234-9904-49FA-A91A-B523AF6B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3604BB99-CC1D-4001-A146-83A8003F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5BB4BAC4-B8C9-439A-AC46-CA75C1DC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0E89BBEF-7FE5-4CF3-AA39-703CDD7C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65537B95-C306-4C9C-8436-48D9FAA8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5629C162-2FFD-4575-9D2B-E882378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57E6C722-A7C4-4C6A-8DE1-D2AED51D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47F17100-B1B1-4A55-AA00-1180B29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FBD50A6A-FB4B-4B35-AC32-177AB9D8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609574C9-B457-4752-A533-E9651780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D0B71D10-0CAC-46C8-89C4-6FF3CA0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36AE2288-0319-4CA3-945E-E09E6F4F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739165DE-0C14-4938-88C7-2A4C1FBA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0603876B-729B-4B41-A3BA-2E594806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97BB43FC-B5A0-4D98-A4F3-145BE321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F1F3F970-8A8B-4A1B-A8D8-97E9A7D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8D855964-F352-494D-81F4-C4E74658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FF73F48F-024F-490E-9263-49A04AC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8DAF6C88-681E-48BC-BBFF-57E50AE0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B5E5D144-82E8-4366-B8A7-8C6ECC28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F94D0372-43A9-428B-998B-D09D728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F2F8256D-5BD3-4D40-92ED-9BB7D89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AF3CEB17-F91A-45CF-ABB8-04F6B197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120C549E-1323-4713-8624-E13E666F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93E9AD33-6BF0-404A-94E5-A3141D55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9DAA1E96-3592-4F2D-AAA4-FAA16253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E0D0E0CC-4208-4ACD-AEFE-4A9521E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8F62D790-6BED-4220-9502-A7FDF992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542CE47D-E689-479C-BBEA-DC3E68E3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77005F83-B158-4770-9965-2D9E7D34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2181037-4B7E-4532-A360-FD400288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DCFA6BA-9D11-437F-AE60-E323ADD6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06F744A4-005A-43D6-B9A8-FCED32E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A5060180-8BCD-4363-9CE3-E72B2AA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B839619E-B2A7-422E-BA9C-E9886775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FBFDE175-4C26-40C3-B045-E5137996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29B20FA8-9829-423F-B8BB-A5DC0B35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8FFA60F-FEFB-43E9-9C31-44F73D34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2C391EFD-5095-417A-BD60-07300C5F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699BCE8F-13E3-4331-837C-C79FC536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6D50902E-6021-4453-8D27-177B1E37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090597E7-D620-4DAF-9F41-660E6478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8C7262DD-4674-4FF3-B7F5-E89EAA14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93C95B08-1E1A-41F1-B419-377BEFE2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E6CFEFD1-C1DF-4A1D-9CCD-07B5F78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E110-5312-423E-BF96-2D4EA55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6ACAD639-972E-4820-93BD-F2041BB9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DB41F333-ED5F-4374-997B-F9DBD75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44F9D8E3-4290-47EE-90AF-3E7B5BCB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21F25D15-BA8C-4213-8683-B7830E9C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5A7110C2-EA32-4FC8-BFEC-3E3A3F6D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8B092A7D-1AD4-479E-94FD-874FD2C1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4259F148-9932-41A0-B031-E5DEACFD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83CCC5F4-CA97-44C9-9290-CE9D291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B7FBBA90-9152-4988-BA08-896F48FA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19479AA3-D424-4028-A36D-C022CC29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96CA45F5-7918-4861-B2D5-68E1E2E9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C1B900AA-93D0-46FC-A699-F640057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E3CC82AD-3D73-43BF-842A-47EDC61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B43FB5F2-E992-4068-86C7-515965DD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4B70D01F-7AA4-4BDF-B7EA-19DFB91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893D3343-E1B8-4033-A187-90A14CD2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227E052A-B2B4-4872-BAB7-BAE1A055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33027C5F-CAE3-4A3B-B3F5-ABA5F46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E5C1BBFC-EF4E-41F2-A715-A2C9F22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BC9BDC13-E1E9-43E9-AC1A-29C4E6C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32549C95-C418-4EF0-B0F7-8D0045E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F03BDB5C-6EA1-4E51-8D07-6CE239A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9E75A110-60E4-49F3-98CE-3CBA8BA4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E094F5DA-71A7-47C2-BC68-B511A12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8795E12E-ED7B-4C0F-BDB8-36A4D6F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C77C9F39-66AF-4B5C-80A9-7AC3073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67086E44-F521-4005-A0FB-64EC8E5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635C20C9-0803-4F0F-AFE8-76973D32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6344CDE7-C248-4B50-A40F-1A28F0B4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00138A41-F0B9-430B-B329-C62B2371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E86C61CF-F7D9-457B-BA27-B0B16DB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197D6668-0A54-4EBF-82A5-850B80CF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160C1E2C-AC55-4A4B-A1AB-EEC18925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70C6DA81-6688-4707-8F44-E45115E6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0DD6CC04-757D-4BF4-9D03-6A172E6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506DE976-8200-409F-9CB3-5462A59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A7BC630F-7827-4A56-A6B5-2713583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3D2DBCB1-794F-4C50-8FD4-E071667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A4F4E964-F3BD-4600-9054-4D182ED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77D7417C-F562-488E-ADFF-685EBEF8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06DF4458-203B-4D8B-96F4-BFC705E3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8704330A-1C4C-4EED-BA4F-3E346911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E0C4482D-AAB6-4747-AEE6-0D299BA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09490DD7-6794-4FDD-8A4C-B8EBB692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E1EB2405-CB70-4370-84DD-E6FABD26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E8FF3DAE-F967-4A55-B595-EB804FAE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9CDFEB6F-6DBB-4EF0-AE0F-2A4B5A1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88620808-0C1E-45F0-A254-0C0DAEAF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349F8A4A-A5A0-415D-9C62-3F386295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69DA8F97-61DC-41EE-99F4-4767694D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8880B-0B16-4307-8460-E10DF177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1D096664-B9FE-44D6-83DE-E7E993A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0E99B51C-2A50-4759-AA6E-C3AF4908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F6022D02-C3F4-472A-90C8-AB0DB5E9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0E4BA0FC-B3C4-405C-BDDA-FE236F5B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CC766475-1C90-4291-B6C7-ACC3775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FBC87034-CF59-46A2-874D-CAA213AF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E9A0BD2D-C1DC-4654-8043-36DE2E5D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92408558-9F15-4C07-9D9C-080CFCF8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4E6D28E7-FEB6-4F6F-976E-EC638A0B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3A0DF4ED-83D1-4006-A7D1-47B6EC5B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F463C-E911-4CCB-8391-567591E8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E32D7A71-3EDA-4EDC-88AD-9DE3C72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36BC4261-8A00-4F6A-BA31-AF1A2FD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1F90EFAA-F5C9-444C-AA5C-492147A2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1DD042BD-6D49-4525-9C3B-E74248D4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8CBABE0A-3E4C-498B-B12C-9B9AAEBF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DABA1-DEAD-4657-BFAE-4A36F46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24464-E04A-41C7-B38F-55D3BD04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75A0D-1840-4FF4-A453-3B2FB46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AC9F-16D7-4C48-AEBD-3B33BA21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5D471-27E5-4FB2-9E16-CEC20BA5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5E762-976C-4372-89CC-A5B521E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1B267-DB3A-48BF-A3F3-AF6333C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F824C-1C33-4543-AB7A-6A9BB25D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8380E-A778-4683-B2CB-3CDB3EB0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3308B-B274-4D24-833D-AF52F402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91429-F611-4D0F-8F43-7E543CCF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2BBF90-8E5F-4BEC-BD90-21DFB79D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9A00D5-6CF7-4D73-8933-7CE02DF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C26284-E337-41B7-B973-96A76DDB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4BF8-39D0-49D9-BC05-7E693DBB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0E24B1-5669-4ADF-978B-20881C01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7EBF19-CD1C-4AA3-975C-C265DDB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15B128-1915-4DC1-B84F-61D6EEE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B8F4AF-F02D-451F-A13D-858EF76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E93939-A787-4593-844C-8F036C94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DC753E-159F-44AE-90D7-4B0E400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08A124-7C85-47BF-AA75-A598CD0A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5F15BF-FB86-4942-9BAC-4C523AB0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CD3509-80DC-40B0-BA45-638056CA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37324F-BC5E-419B-94BC-480E50F8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EC96-E7DE-403C-95B1-420DF449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125389E-3C27-454B-9578-6C2BE195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EB6B49-3CBE-46F1-A67C-3FF83B3C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806036-9D6E-4675-978C-B15251C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211B51-6F93-4F87-8114-11E452F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CB6A36-DE3F-4826-B39E-83F79BFE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ADEC1F-AC61-4B65-BC0C-309C8B4A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1682FE-B037-4BBA-ACF9-154ED56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CE5B5E-358F-4B45-9F7F-AECD985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0EFD69-6D55-42E3-93E4-9A2BFFAF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E3CAAD-3463-44FD-BF65-FF657996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B982-073F-4A4D-ACBA-E40C5D8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617602-9435-4AD9-8263-528B9727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D0A891-9B1E-40F9-B644-6DE36AB6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E3EA65-4B3F-40FA-A926-0C81DAD1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0B43F7-0F4B-4907-93E9-795732E2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A81B96-1FF6-43D5-B672-C0423122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BD4419-474E-4E24-AB87-E077903E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E5BD28-A5DD-4822-B1E1-98834E50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FB4545-36A2-4B87-8D43-47F0D8E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211F45-4B27-4B7E-A319-20595E84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FA30AE-77C2-4433-9878-82A3A99E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034-5336-431F-8D83-03E0AA1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1D4885-5724-4161-9D67-909B0B67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33D2F3-39F5-4D8D-A3E7-326C6EE3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8FF672-BB84-478F-ADB6-FAAAFD9C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585F51-1664-4EF9-85D2-78B8BC82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557CEC-C6C6-49A9-9A1F-FF2D5D0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E5D3E1-34F1-4605-9314-595ACB46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EA3361-7FB5-460A-9356-4641AC8D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85868B-8252-4F48-ACF2-C80FD5A7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C99D3A-2A61-496E-887B-3E35B0F5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4CB6DB-F99C-4F61-80D1-DD133DB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A17-287C-4F40-86E2-DBA40199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145-502C-40B6-987F-62D9760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53B152-4C95-4FEE-8986-E59467F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0C2562-B6C2-4C7E-A425-0C15DB11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82EE4E-D327-40CE-83D3-84AA165F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E5050E-FA12-46CE-97B9-D0E0B685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8090A3-7291-4CC5-9ADC-416BF6C4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EB909B-C2F9-4FF6-B9E8-B9231FBD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64B52B-32FE-4CE0-983E-9AF482E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6FBFC5-CE3B-46D4-950A-413FE15D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877224-1FFA-4B1F-860A-75515610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C98613-3AD6-4521-9236-AB901457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9718-0D48-416C-BA3F-CA011DA6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AA52E4-494C-479C-B080-374BAC07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F6E3A8-3EAF-446A-83F4-7EDD2BBD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2C0731-54EB-4324-B6BE-9664B4C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3B7649-A16A-4093-8223-2A6630D2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716965-D891-4DB7-9BD0-2D8ED765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58D939-281E-463B-9AD1-1DC79D27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A131D1-8AAB-4D98-A050-80C2A6FF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2AFD95-E721-45BD-A6C8-DBAC4E9F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DA4163-5ABB-4026-B90C-C7C70FA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8B0A27-0AE5-4479-8F4C-E9946366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8A21-9799-4AB8-A739-A74438A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01B4A2-D2A6-417C-8978-ABAEC28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84C8E1-60FB-4B69-9E2F-E00FF796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B828AC-7A7B-44AD-84B4-589D9F2E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B92124-2EB6-4E47-8F95-6ACEC20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EB0485-BE31-46D1-9E6D-B64DBFD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46B3BB-0299-4578-97A7-909470A8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A08A64-CF23-4F04-A98E-BF99D825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9D277A-892E-42DA-BFE8-FC7BD925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DDF789-BEF0-44BD-9D0B-669DCEE8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4917C3-27A8-4573-B0C8-AA919D04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8400-1B88-4530-A2FD-B75B12B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A1FE9A9-B9EE-4CD3-ADAE-9CBCB21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022A94-8554-4A1F-A458-5A123EE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20F5295-B3F2-4E60-9C1B-67997D1B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2EAA88-DB20-40C6-88EA-5E581141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5A2337-AF43-44E7-A7BA-D266E102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36ED47-A7CE-48A5-84E9-EFA22C9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26F14C6-81E0-4380-95C5-47DC4104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61ED56-C981-4B3A-B86D-BF1B49B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E6F058-F2B1-4025-BEAE-6E8EE16B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0F1156-4A6D-4E15-8714-D2CC1B78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9380-E157-4B43-B66B-850BB858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D604A4-68FD-4BD7-B289-7F09613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D76EA5-00FE-463C-839D-E35E5D1A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E2656D-81BF-482B-9B19-4ACE6EB7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61139C-80D0-4CE5-84D9-EC5DC1CC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68E170-94CA-41E3-B351-C3C140E7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6F5C5B-B532-41C4-86A9-C0FD5F62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5E3B39-7C1A-4271-B5DA-2C75CE2B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F5EC4C-BF59-46B3-B556-A179FBA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484A2B-6B5C-43F7-8923-5A70EA1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6A690A-DBE0-483A-AD18-46A2C6C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356FDD7-35D3-4340-917B-762E7DC9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8ABF06-CC12-4138-B146-EA5AF345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880C43-A022-4C32-9534-D02A3111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71BD10B-FA7F-4050-BDE6-AC208C95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0BAB18-A3FB-4EDB-B978-7F892058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EA82AEA-0400-4037-9DDA-08AEAFE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9EA16A6-5EB4-4957-BA6A-6E0693C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BA7545-42E5-4B3F-9520-28971A0D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704A055-860F-45C5-BA2F-BECD9D0A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72D095-E194-4742-93AE-1E02D06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FCCA746-B0DA-46B3-A892-577C1056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273A2E-EC32-4ACE-BEBB-0D4AAA92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6EE7C8-F784-4297-B92D-0BA3A40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83A3D7-1FAB-4CDE-BC01-2E1F886F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7FEC7F-A5EE-4222-919C-ECE7A3EF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2BB-86A5-4BBB-8BBD-4CD0057C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87D02-AED3-466B-A62F-318DD17D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04CB7-E27D-4042-905E-1767E19E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76943-402D-47EB-B5C8-10DCC1C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023-22FE-4BFA-9DAF-9C940DD8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D501B-3711-483F-B4CF-DC439F46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0B3787-1DBD-4CE4-A575-0AABCBDF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A06D8-4F2C-474A-A530-2DEB8C97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01C537A-C458-4839-895B-438DF797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4BFA46-B95E-4238-AD49-DCA3A11A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9B0B06-1BA7-4E80-ABBB-C5491533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37F048-4689-49CD-90FD-021205A5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3818B2-811D-4775-9BC1-8B8B2FA0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2E5512-8C4F-4045-984F-0D021DF2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E929E7B-D012-42D3-8161-039E93E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24B2DB-0ADA-411D-9F26-75CE5F4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1A5993-592C-4709-98DC-01A01942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62B10D-9C12-4468-A762-8AA56CCB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3CCF6-039A-46B9-93B5-9D24F507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D69279-4CC9-4CB2-9C2A-C8ACFDF5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9BE64E4-5C38-4A41-A438-B05DD59F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F6F9944-A59E-44B2-80C3-057E97A9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05B408E-D911-408D-AED2-753D9670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EFA13C-E75D-4162-B7F0-7B93557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1B09867-101D-44CF-92FF-841A3E7C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8B9629E-D21D-4154-B594-E09CADD0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8CA7855-8EBB-41AD-AED5-AA2119A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956468A-5549-43E4-84EA-839C4E5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D7E303A-CC9D-4201-A1B6-ED1E8F9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B4E2E-16FD-466F-9EFE-BF48BF8B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C291D54-D8AD-4227-A562-F5AD7DD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A37066-FF36-4755-B515-719659DD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59293D-0914-495E-BF39-CDFD2C82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D0BE7F8-7793-4A3D-A401-8DE21C9F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91DCA49-9874-4F1D-A450-BBED3B48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569178-5EA5-415A-9E39-2CA1CAC2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B2C9B4D-DF47-4D2C-B87B-A5D2A32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07F5B99-3DE0-4E30-BAAD-512AF7F5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1B5B93-6BD5-4F46-94F1-1D52F742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552CC0-BD46-4042-8E7E-FCA47C06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7978A-EE87-4A5A-8BC6-89FC7AC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6AF9C78-5C09-40AE-A6C2-3BF8C1F5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E059E65-83E1-4C93-9297-DDE7EA3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3A9D9AC-86B5-45F9-ADB1-A77AC45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293D22E-72CE-471A-B441-BCDBDAD3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535A4DD-5E67-48DB-972E-14CCB7D8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66D2A63-8064-42C8-B6BF-2D3A41B6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9F3B3D8-4501-48FA-909E-8B98CA6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C93011C-7318-4885-9D63-F59377B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13A77D9-53CA-4127-8C13-2F662C37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CD3F7A0-1C31-4C28-93D1-4AC079AB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67A96-31E5-467D-A026-FA56365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041323B-2019-42ED-9F1B-BD13F502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F0DD46E-522D-40B4-AF1D-99FF371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881B06-DDE3-4271-A8A1-A06BBB65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0553C9A-6111-4E8A-89CA-709D8C28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7958410-1565-4FC5-B70A-E8856DE4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31DE86A-0704-4F0D-8A18-D4A7E2D9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A567658-FB77-4E07-A230-57FF0089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694CEFF-5598-4458-B475-EDC680A7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78E868D-D77D-464B-8253-75E69DA7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A40962E-EFEA-4587-A579-9852BDA4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296AB-145F-4DD2-B946-E37F71F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24D8680-A76C-4923-83AD-9F53C251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E0B7B4-5B5C-43B8-A4CD-6355536C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7F6B313-4B3A-4D2C-B6EA-A9C2D5B3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8335F9-DBAD-4B57-B2E5-43F0EDD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A754E9-9310-465B-AA90-FB767D3A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22F10E-B711-4896-9E42-46A813C9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4796958-42EE-4857-8F6F-89C17254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5331D05-2D14-47F1-A47C-E8C7482E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29DA407-BD91-4A43-B661-1F3DF1D8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D98BA5C-6DCC-43EC-9147-D1D253AE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7D179-7853-4E51-B206-5981142F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371F427-205A-42ED-9C9F-BC165F73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B026B6B-F3F1-42AD-8B9F-5B777605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AB8CB22-94B2-4DA9-BDB6-E4773C3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000F03B-7C63-4722-9B83-0C41F6D6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C82FE61-B924-4AB3-B68B-AE22D35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573A61-47E5-4261-974B-2F95386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7D7D336-DDCB-45DD-B900-0381D55C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C519AAB-65A5-4C7A-A5A0-F46503C1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BF12B8F-8DF3-4516-9D9B-6A007F6A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DD1F5E7-8AFB-4A04-BCF2-673FA247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85C0C-3309-448F-9D52-C0F1B173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A4D20FE-AFE4-448F-9DCC-8EE43B2F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7519A7E-4B06-42EC-97A6-5AE88B49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F4D1655-1FEF-4D79-9831-F815117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B4975A3-4087-4761-A675-D1B2DA0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F5CB4C4-836E-47DE-92C9-8FF0E5DF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0AEC8C5-924F-4F87-B31E-41ED313C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E1C56B8-FDEF-43E2-A606-00288CD6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F27176-1AE8-4AB6-9166-8083461A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67881FA-98B3-4EC8-ACB9-9685321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19E8EA-1A9E-445B-A1F3-435FB2F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5EE217-05F0-44D0-8371-822174C4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00CE998-9B6D-48DA-9324-29046A11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0AAAC9F-FD74-43E5-8810-FC853701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9CFAF5-D227-4943-800E-EB8E428F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D51B969-4E17-499D-8F63-176C8657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7DF6B26-A156-4E74-9811-0C097D79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B0FC4E2-D4E8-4FCE-8053-FC53A969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C20FF9E-4600-4E3D-9929-679BA96C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AC2D21A-5851-4659-BB3F-1C138A1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306263F-97B5-430D-92A3-C6E0E909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C6B321F-ABD5-42D6-951B-B2ADA81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507-6773-4C02-A22C-2B6DC619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D1FC2-2384-4A8B-AF01-6FC57E70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C53F22E-CF2F-4D55-9411-76AA891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11BB092-03A1-4DCA-B091-4DE3ECA4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1CADAF6-8190-41C9-8843-04184EE0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1272A00-E828-4583-9BB7-EB4A5919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C79BDCC-776C-464E-A6CF-EA5D3733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DD9134-2F98-4A6A-BFFD-3E39F2AD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CE5639E-146E-443F-9407-84B3B07F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0A791A2-3F9D-46E4-8D42-E44B4A77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7ACDBE7-B637-4689-85F0-92358FA9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9892AE2-6AC5-4844-B121-B0406508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7D507-74CA-462B-8434-2E607BC8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02806A3-1238-45A1-9E3D-F540BE67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B70E25-7C6D-4024-843A-A0D63C5C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28A36C1-7BB6-4A64-ACE1-2B2941B7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218C961-676C-436E-9A03-5AA3E21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B734694-AB11-453E-9C9D-64876C58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C9F66E4-4EBB-46E9-90F4-D51258AF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1E96952-DC91-409C-829C-687908B4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E9FB83E-1864-4AD4-8800-E9BD797D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174030B-8D94-401E-8DB1-32FD0248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ACF62A8-F57D-48E1-8912-FFA5D1F9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B597F8-F022-4771-8F7D-B26D00A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E140A18-C345-4453-885C-EC9E1CEE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813A4EE-0F96-4E2E-8A14-3E23C5C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12FE444-36E6-4E72-A3EC-3BF0290F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E9B4266-24CB-4B79-A1DF-6E329BC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38B4CEE-74DA-4AB0-B3C5-C9FDA89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45F81B2-C520-4FCA-9503-85AD3855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DABDC3A-113F-4F56-8C83-15472CC6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5C9E75A-D08B-4F9A-9741-7060E293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A5CD04C-4E39-4785-B78B-6DA9A1A6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3AC8504-CC5F-430B-876D-1C838767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707D0A-0074-4A15-BD68-654C0335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A55B107-3A30-43A0-A8BC-6479D96C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B98574B-394F-4248-94B1-962247A9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FFBE801-C57F-457A-B70E-123395E8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01FE5D5-9B6E-4BDA-89D1-82A74085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B8A27C3-CD40-42E3-8243-C616265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5820A78-7771-42D9-98AB-CF663BC3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0AA766F-B77B-4798-AB73-531F1B6B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B45959-7717-452E-AB26-E66678BC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51BAA10-68E4-4FFC-9605-ACDDCE54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B6E7FFA-3A47-4331-A61F-68C49AFF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BB4EC-9327-4542-92B9-6D85C55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3DF10D9-C5E8-406B-B0B8-3612B9B0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62D06A-48C2-436D-B7F7-1112761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FFC71B4-4633-439F-BA92-818BBF0B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FB2D37B-0313-408B-B74D-BDCF759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EBDD277-1B0A-4CBB-990E-A112F006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7419DDB-2C50-4CC2-BEC0-15256BCD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96EC852-4D33-48DB-B1EA-0962472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4299CFE-2EDE-495B-96FF-AFCA35FC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54A2E04-4F25-47E0-8373-310D0CB4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87511-2B4E-46C8-89A7-B0738C9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CB6998A-946B-40C5-8852-AD72516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B63E98-5D7B-4E98-B56C-615CF03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F6B5E2E-0AA1-4877-94AF-F7F5DE24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DF3647E-FAC1-40B0-AB9B-1FD01281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725F315-BF9F-417C-A0B4-0AC48B80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441823F-C232-4275-8F5B-84104D9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0CB65D7-F097-4F56-9FE5-739CA170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0E526E-38E4-49D6-9FDD-69178A50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1C6900-7DF9-49A6-AFBE-E231F1BE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FC0660-8BA7-4FA6-816F-BE7961DA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55BA05-C5A2-46FA-9314-64CCFD05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9F61B9E-BAA8-42F5-ACB5-3FBC352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7FA0ADC-824A-421B-9158-34097BC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77C7631-3875-4391-8649-0CFCFF51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B9FD237-4398-4E24-B3CC-B16C63C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63F43BF-7BF1-482B-8ACC-CC6BA6DE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51FCE58-F721-4613-ACB6-821A44BF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B9A931C-86E7-41AB-A85F-925E23CF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3ABF801-FBB4-4E9B-91F0-2B881E67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33B8160-6266-4633-A870-A6C667CC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3745591-72FE-4B09-857B-00479F7D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AD5AB-C8F2-4548-80FF-B898156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5E39C55-5BF8-4044-A302-0962B834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7294316-90C6-4607-98F7-76DB642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2FB9F60-7A88-4421-A92D-CA9BEA32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56FF472-4E2E-401B-A2DB-EC01FDB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47E3E0B-FA78-4BB7-981B-C27B771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4345470-B1FD-4A8F-BF90-BCE9F5C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31C89A8-6DE3-4922-AAC9-0B74774A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0DC882-127D-4A42-A38D-94890FE2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C6D41C3-690E-4596-8C3F-DCAEF209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CB0A45C-FB62-4345-BF2C-A6A345D6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21A69-DDFB-43F7-84C6-50383EF8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0CBCD22-BC0B-4EF3-A1DE-6CAB4ED8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3372F4B-A305-4DB9-9294-775A79C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C611B0C-C601-4ECC-908A-678D0E5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949D9BD-9536-42F6-A063-DBCE1FB7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4526795-77CB-43AB-8799-19434F67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05721F8-A71D-4B65-A81B-594639D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1DF4884-2EE7-46F1-B86E-F289A02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90E65EC-9C7E-45E4-932E-9B9F78E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86F45D8-E636-4A14-8B86-13E89BF6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FE8D9DB-14E2-40A0-BE63-1D8A6BA0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19F-FF9F-4047-9CF6-8C072AA2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104671-AFD7-47DE-9C52-C3142707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287DC9E-AF6C-45B7-9268-4A2A5A7E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FE0B09F-10EF-48B6-BBB2-21D04346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63CA937-E4B3-4124-B947-700733D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0E81AB2-F0B8-4B05-B603-C77581B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D81AF6E-F8A5-43E1-B3BC-FF3531E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DD0D960-EC33-4D7F-BCA3-48DB026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458B36-C2A3-4966-B1AC-BEDF66F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1D252A7-FD3D-4654-A303-A9D9320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B4054FD-13E3-4923-924D-C96691D8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57F5303-6B56-4921-A236-DC93C044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07455-B9E7-4270-80D2-9BF37274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87ECED8-C011-4146-A249-3BB5E6E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62A834D-CB94-4FAA-AC76-602AC7E6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60D470D-6A4F-4449-8FF4-F560220B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2EB32F9-8A49-42DC-BCEF-689D2968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9C24D2C-9EDA-4191-AACE-AA5F1A56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A7BCB0B-6FA3-4D32-9FEA-E0FF734D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B329546-1E8A-4559-9987-4C1AC7F4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0194E85-E3B6-4F3D-8614-881AAB9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DDF2572-2F9B-4D3F-947B-3D9AA256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5986BBC-C2BA-4F35-86A4-76E2761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CC482-D99A-494D-B3D7-0D6BDF7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299A627-8D3C-48AD-9F99-6AA3483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B6B38A5-4E01-4B3A-B4FC-08970217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70203FD-A7A2-44B1-ACEE-28AE83C5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CCE6217-28A4-4865-B4ED-40093A5A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A1FEF7E-4A74-4E58-B170-E788C317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A60733C-EC38-454D-9684-080CAC80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1B70C28-281D-49E0-B1AC-866152CC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3490F98-92F3-4BC7-8D3F-4084C694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C8D2A55-3EC0-4415-9053-24F05113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3581D2B-16DB-40D0-8885-18B543E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9D90F6-D9DB-4C4D-9C57-BA55EE2C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20E4EA7-9349-4C13-9A5C-B0921D1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F93EBF2-DDFC-4F5B-838B-121D719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4B82A9D-DA04-43DD-9311-DE6D67B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0C9E44A-3BA3-4ACB-9BBA-F92907E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53A6161-6544-4C1B-872B-EC7FCDF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1FF5EAF-1D09-4C77-80B8-08A9D96F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0E999FB-284C-4916-9DF8-C4E04328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7A22504-F6CA-4D2F-8C9B-B04D5075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710A566-1E12-4D35-B95F-7BDF3FE9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04457C3-E644-41F0-912D-54BA3D6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383345-E908-4CE8-B3B2-8340AC32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3F8BA92-0BCB-4358-B282-583BA5F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1CF76CA-9F2D-4F4A-AA44-E87CBE1D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30E0790-22A3-4F03-AFD2-A75D59C6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0E614F3-5EF1-4A39-876A-139AFCE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ED2BD3C-D295-4694-83CE-A2A87AC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836F48B-D8DD-4B37-88D1-DC6FF103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7613EE7-DB98-487E-9A3E-85A31E0B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57BACF4-4782-48BB-B8E6-69B8EB20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0B67100-D053-4413-AC5C-E4A77E9F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FE4D89F-FC61-4BAD-B86B-5786ABB8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A2BD52-392D-4887-A3D6-A862EBA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7D07305-AC2F-452B-A80E-252ADB20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DDBDB2D-B33A-4612-BE01-829D9896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1109AA5-1BD1-4178-B0A6-AFEC1A01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926AA72-88BB-4E8E-9CA5-46DF4C36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4623BEB-35EC-425D-9819-7E3074F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FC87AE2-BD1F-4D54-A099-6304C9B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0C30447-19EF-4F2D-BE6C-F7A4B48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AB15090-82F7-4423-926C-1A7133CB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7CB5214-4853-4923-84A6-BF74D90E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16BE5F3-6DA3-4659-877C-2A2F06AC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479694-C721-4CA1-B132-A1676AF7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6AB783C-6957-4A57-B89C-F3724ABA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619FDCD-8282-4009-8BB9-9F3E3ECA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1328826-51D1-42FF-88FE-0E06DEE9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91BC53E-9746-404B-9378-9F47973B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7B240ED-BC71-453B-B063-D3A340C4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269DD6D-472A-458C-8808-7EE390A3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2E6D64D-9D22-48AD-BBB6-A08799AD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78C3663-8008-4865-9FA1-1592DF1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4C43481-07E6-4C51-87F5-C6B0361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AC3AB83-9243-4E2E-95EB-517F81D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506F2-2681-4165-BED3-C6BE7C9E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0E9C62B-FB7A-4B86-96B7-2E15DB69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B0CFD99-0CF4-4099-96C8-D6417C8C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B593B8B-7329-4C06-B949-0EBBDD2C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08CC72-4AB7-4D0B-AED2-B3F35C3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AA8F0EC-CC27-4EA1-A692-5346A018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5EA6106-122D-4F15-A8F6-D3ACD44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AB7ED0B-3634-45AC-B9BD-2470A24C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EB484FF-AC80-4D37-8289-973AE73F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99DE9AB-56DB-441E-947F-3FB0477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37409-A79F-47C6-8E0E-F6335EE9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C86B731-3EB9-4D0F-B49B-3457A991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FCAB281-5FB3-4C8C-BD37-881CF848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178CAAE-9012-4B4A-B8A6-2DB1B4C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1B8392A-758A-4FF1-9AC9-FF5EB90A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CB0285F-24D5-437A-B401-904BC195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3D0FC4F-F869-436F-AB1E-3C8298E6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8CFDB8C-E5F1-495F-907F-3C897BEA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A04FA3E-6F0C-4D24-B649-C299F683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D5048CE-80EB-4DE3-9F86-47393EB3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FB83F61-BE86-4F6B-9D62-700C8CD8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BCA-3C3B-4191-AE92-FA40916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C226AD-CD27-449A-A5A5-12A158AA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9198B74-A81F-4516-B879-1D4E7D18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BD91792-6F8E-4CF3-88DF-6A2A0550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0FDD836-EC49-4600-A77D-B59DB5C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39D7FC7-F01F-4B50-A564-50F0AAE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350954C-43AC-41FA-974E-D802C193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8B6BB31-AE43-4C2F-9AA7-3C754E4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EFBC8D1-B62A-47E3-BF0F-F1063EEE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4BE755A-C5A0-4E19-A21A-2E21386B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4C33CD7-852D-468B-BF60-CAEF44C9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ADA50B3-A752-4D30-883F-0D7C182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998BA9-886D-4077-AE21-8BE4D2B0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A381D4E-BD32-46F0-A535-5EE4A562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AC38A62-D521-4122-984D-4704C54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069C2A4-7AEC-4868-9CAE-711AE01B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CB90BC8-6BCB-45FE-B13B-70E65A6C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C8207F0-1427-4ACA-99DF-A7383DA0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455896E-EF9F-4892-A768-8B47F0A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D208034-825E-4906-8B5F-FB58E35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328D88B-59EE-4708-9894-EB632A4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6A80181-2484-43F6-9736-0FBD3CDC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FA2952C-F6ED-4DBE-BBC6-8A74F767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7A9EE-FA07-4889-8D9F-38AA2DA0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DDE4BA0-4C15-4A9D-B24C-C3462025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98FFF66-B4C1-4FFA-89DC-39E4621B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703FAE4-88BB-46F1-AC12-5AD7136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BC0DE89-CD1D-46DB-959D-AABDC01A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746A1AF-DECC-4805-B73A-D54CEC4B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A9FD34D-0222-4D93-B7D2-A71146A9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BEBA439-2921-4105-B57C-303926AC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4BE7570-DD42-481D-9525-36566DB5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F093858-8CA8-4ED5-9012-F90A02C6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84757D6-C97F-48AB-BC04-FDD90D5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0C97E1-157F-4F0A-8415-A49D4DF1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D53E2C0-1F9A-441E-B4E7-D9BC388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25BD1E3-07D2-4913-9317-8A67BC87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3D67ECC-0C56-4C01-8686-7826F831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723468D-585D-49D3-88D3-C86565EE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63BB24D-833F-47FE-BAB9-C7B6D859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EB281C1-A7DD-4DF8-998F-E16FA868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7AA135A-46C4-4172-AA1B-BBF83F6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1B160E4-A4E8-4659-B486-E9B9112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853634B-B6C0-49EA-BE02-F1FD5CF5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77446D3-23D8-4DD5-ABC5-A728AA3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32B32-0455-485F-9297-D52C8B5A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CE77880-AF39-4515-8AA4-CFEE0D4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F349B78-94B7-4385-B8DE-697A104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905E449-6B57-4A9B-BCF7-E0220253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74EF5D6-394E-4210-8D67-C3C25F2D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D5CACC8-60BA-4522-B9EA-D93122AE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A942007-4330-463F-B6BF-FF3C9873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2DE91E6-4648-4AD3-BEF0-29A01CA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92008F4-38C0-403E-AFA8-C5499AE9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6F835E7-7920-4EE8-9C0D-0B5A60FF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6E75268-0BE6-4FEB-B130-1538E8A8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4472CE-6204-4AE7-83EB-4C588971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2EF5823-E4A9-4002-9677-380EC66D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108E7B8-0C2D-4A34-AB02-A1887A7B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50CC5FF-145A-49D2-A9BB-0E05EEE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F94B1A7-A16C-4EAD-B7B5-59E9B79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FB8B8B8-5182-488C-9A6F-52094CAE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28B7A62-1720-4939-82A3-9BEBC725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3362B9B-8C55-4508-AF44-F028D1F0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72614CD5-FCE5-4149-A21C-83237934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BCADE5F-B56E-4B40-8814-C3931828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05B25974-8F6D-4B22-940C-56148678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70A89-0CCA-480A-8299-B2F540F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FE3682D-5E8C-41CF-A38D-20B7B50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3443AE0-D303-4243-B522-866EFB34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0F7C839F-FF4A-4410-AA1A-745A3ACF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8057CE2E-FE59-44D6-B7E8-8AD0D3D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AE04258-A92F-4DF2-A6B4-DBCAB65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B5087681-728B-4375-80DB-D76C6CE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28BA29F8-3CA3-470D-928F-5762D2C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3AA8EBEB-9F21-45F2-955E-02C0DB73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0C2AD2D-55C1-4969-A0DC-EB41A6F6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B3909AD-2BD1-4726-96EE-97D4D0D0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4FDB8-3FC5-4D46-86E3-BD8742BB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25898AA-131B-43D9-8936-4BF2C2A9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94FE4C4-D550-41F6-8253-352A7F77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EFCE5C1-F37B-41D8-B238-3ECC6C2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DD80001-A604-4FF6-AA00-6C76B71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05483CC-C6AC-4B9A-9F35-3E1E8215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7AFFE5E-25C6-4219-8199-492944E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696D9EB-2D78-4F19-A558-99C580D8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EA4AFC9-CB27-4D33-822A-9A62945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748DD83-B638-495E-B5BF-C80E0B6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B71C34C-39FD-4F45-87AA-D32EE246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2F503-2235-4E6B-BCD2-F1A2F2F7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EC35724-9234-4FFF-BAC7-E2CC967C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5D1DEA18-2E64-4118-B584-7545EFD3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3EC07A22-76DD-4245-B663-673CB0B3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0D14F4C6-1533-4BDF-86B8-492731D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97937EE6-BAB7-4136-865A-FB9D7A4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0AD3A412-32B2-41AF-8013-D4A6DCD3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E74E7DC0-22AD-4A56-A766-8FCF969D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891420D4-0F86-4BC6-9176-323F5C3E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D64F0852-02AE-44CE-A9C2-201F8783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7F5F5074-AF6D-4691-918B-1E93911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3E9D38-11B1-4786-A7F1-12BDD53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35225063-88E4-41C3-8238-395C46E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82F7EC02-D456-4DC3-BAAD-8981B163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D20F3D0A-DD4B-4A8C-BDF3-8A420FB5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626A377-6199-4214-848A-4618D425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0FA711C-4A96-4DA3-9479-E35FCE2F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108C217-E172-451E-920F-A19178A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71C67FC-D617-47F5-85DC-28F3A028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48BF6B9-A59C-48A1-99CE-D7EB0D04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7F575EF-4FE4-4065-B189-F6319951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45D943C-9C1C-4F62-ADF3-577EFD2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E84-FE03-4D73-8D70-13DD4BC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AD9DDF-C213-495C-BAD3-7D556899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91D2A40-56C1-41C4-A12A-C2E40F2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5D1D968-2D4E-417E-9AC2-B54C453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4D3DF9E6-32B0-4128-AC4B-93E95980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95912B3-0110-471B-AE0E-2022FFB2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2FDA490-3D14-44EF-A4AF-AB7AC656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6FF135-A8B4-4B3E-8394-C4C341C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B92896B-E21D-4541-8E6C-D4F5A48A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C1C5BD9D-4746-4E8B-BD54-3B3297C9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3198C539-AE02-421C-8B69-73E5AA2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6517B-2FF3-4CDC-BD9E-788E0EE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47BCF4D2-0B13-46E7-95F8-EABA81B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ADD78D9B-7FF5-46A2-BE95-E26C0CB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B496EE78-8832-4C14-B61E-E01E130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8F72456-2F7C-4A0C-A3FA-F9B49B66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3121D293-54B2-455B-9A26-91CE2C5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FD18167B-09E5-4462-85A9-D46CB3C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F43A3F53-4253-4FCF-A74D-E0031324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94F3CF27-651D-46B9-9C52-E96393AF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B9AF2B1C-154D-4B99-B8FF-C81EEB81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58114C86-5E3D-4718-ADE0-52E9A763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8C1A73-2E61-4CAD-9E28-B34A6130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876E6BCC-DD9B-4447-9537-12CAA65B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482C83F-8B6C-40EC-8A40-0D773C8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F460D72-4D2D-484E-9CD3-2DE3389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9C4995FD-B25D-4584-AD51-AA55D6EA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98DE19CE-4263-4084-9588-C03FB8FA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714CCE4F-4658-404C-B0AD-74D72CF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8C8E550F-069B-40E8-A591-C0206BB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7E62C3C-2561-4501-B1AD-DE9E6CD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6CF1DC2E-DB1D-41D6-9344-83424543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53F9A6FF-83BF-4107-B032-A059F0F1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8409A5-B118-452C-8FD2-6D6324DF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916EE813-B5E1-4C73-A088-88BAD4D6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C43546B8-DE27-499D-83E1-CDD7DC47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F458B9CF-1196-44B9-BBF4-C354A51A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D999A524-8911-4DAB-BCD5-42698017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C632AA76-E873-4255-8E72-AA37D45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4F8833BE-44D7-45E7-BF43-9B69E02B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1A88B218-B0A2-414D-BA50-21708222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855BBD67-734B-4AE5-9CCE-DCD03189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B699D908-8919-4226-99E1-10BF5697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130F1C37-8C6E-4465-A740-BE72565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89462-048C-4F6F-BEBA-1CEFA75A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41191A73-D47B-4B36-8068-C27CF627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7F45E8E9-3734-41E2-BB29-EA86C590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3BFF7F8F-41B8-41A6-A0CA-77702FC7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5826957-A5B6-419B-8FBC-3C29BF91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B6FC44F-9385-4E85-ADA6-1C9F042F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90AE6E5-9460-4737-BD18-6814D773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27A4C283-E4FA-4B75-B4D1-53C3E7EC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95C62FD-C130-41FC-8F88-F5234DE3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4E26C42-86D1-4523-8336-7D82BB01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A774ECB-B53A-45C3-882D-7E2C86DE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7468F-8133-4633-BF7A-FCD3833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B96E54E-A38D-4B1F-982E-075C93B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6843450-52C6-4870-8659-7171321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2B7C6977-3CEA-442B-B798-C77998E5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66380C5-5963-465E-898F-7CD3013C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0EABADA-26DC-46B6-B0BD-FF13EB87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3D42E0F-535D-4753-A027-0FCAF3F7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541B6486-66C5-4A4B-8F69-29F4E8E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5E6A9D05-B7CA-4162-A3A0-F61E9BBB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2C3B58C-668C-45B7-AF51-E49DA0CA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C0C462F2-5122-4BE4-BE5A-5AFD4EE0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FB9990-9115-413C-A3C2-47F7DF5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62C933E3-EC66-43DB-A0C3-056DBD75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92ADF13C-A5AC-4B6E-A0F1-69F44C6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84D7EE19-F30B-46D3-8AF1-54DFB9F7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1FFEAC9F-5096-4199-906A-C7B0F66B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AD8BCDFB-0A05-4E2A-9E4C-BCC14831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CBC61723-80CD-44C5-8608-5E2D7922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F00C016E-2A6F-45FC-B912-E40960E4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A39D104-9B54-4168-BE17-5A6BAE0D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19925B9B-4795-43E3-93B5-F928D03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AFBC88A2-34C3-41C5-9B9E-07FF182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37ECBD-4683-4599-9C50-F7626AB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22BBF73-C31D-4209-9740-507FA86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FEE12F1-1ED7-4C77-BBAE-03D0F98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8E5AB9CC-17EB-424C-8E24-D2346174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E5D2542-2BC3-4248-85FC-DDF4F173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B2B51E0-13B1-4B06-BF88-CC38B02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57589B5D-EB21-40C9-AD85-3EF68AB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7AC8AE4F-0670-46B3-BF7B-3C248FA0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CC0531E-AF27-49A8-A663-D7588725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221C90D8-D34B-47DE-9B40-E59D4D28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34BCD01C-E84D-4050-8973-7FF487A1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9CC5A4-ED43-4DCB-B863-33D8F05B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F7901D00-57E9-40EE-975C-B294901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67FABC24-9601-413E-9073-EC4EE158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919F853-6F24-40DA-B346-340DCFF6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67619E5B-DB28-413D-8D61-20DAFBB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A78ECDDF-FD0C-426D-9169-1F47F1B4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FBD6CA8-5305-4669-8669-DE972806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30A4F17A-AFD3-4FC9-840D-3DE8F800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E87A14D0-FA1F-45DF-9ED6-827207F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DDE45C6-BEA6-4A24-9FE5-A430C10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1458D19-444F-4594-8675-FD13A8AB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382-686E-4001-910E-9F84C12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970A3-1BAA-40D2-8FD9-5DB9BDA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C31A0B6-33FA-4BF8-A0EF-D16F6644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D5908B0E-FD98-48AF-B3F2-8269ADD7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3798F86-C1D4-4308-8F18-8EEB42F7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FA939FC-6198-474D-A14B-E1AF644A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F70C58A-DEFD-4D52-A770-ABD68F91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D6DB4D6-0317-4AA9-A623-5CD3FE45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4FC5C25-47F6-4451-953F-26DCC43C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7C6033D-B58A-4E88-A5C2-199EE83A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BA5B3C12-A54A-418B-B3BC-ADE87E54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4276A9E-65D4-4AE9-9CB6-70ABB2C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711DD3-859A-4C97-83F8-60A161F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8CF3F3F-5337-46BC-8707-A018E651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0F22D09-2AF9-47BB-A749-8953D27D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EC41F20-1905-41B1-BB8C-355190F3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C61576B-2C9D-4D1B-A7A1-3B8C0DE0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4919EAD-D75B-4B27-8949-521C990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7C5B062-1BE7-48D7-9FC0-5704D540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2522884-D544-4DC7-818E-D498AEF5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65A023C-78B8-4573-A312-BFA65DF1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775015D-3AA3-43AA-A14A-2FE969F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0DAA041-7907-414A-B64B-97464F4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61104F-0364-49C7-B2BA-14D8B612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D3B50CE-0DA5-490F-9492-BA52363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3F03C38-AB55-448A-A38A-65B538F4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AC0B630-E9E9-4271-B093-698DA24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3A7CD3E-2BD9-43B4-9A0D-EE949A73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922957F-BD9B-46D0-9A78-B2C3CCE0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828E299-5695-4094-94D3-B7A3E155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945AADE-5E07-4837-A78E-35AA363E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A6F9D09-30CF-41F9-801C-79555A69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5BA8B1BF-B298-4BDD-8A7C-E0DDD9E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96C2520-77F6-4912-86DA-592D8664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46E1BC-7567-472D-B1BC-8C8B9F0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A49DFB3-4E98-43BD-9D37-BEFF4B17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9D5895E-7C6F-443F-AABC-ABEA2901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6D1DEA3-221E-477F-A6D7-3E4558E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438B85E-DFA7-4609-AFD1-21269CCD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D0975D5-67A6-4C25-A9A6-E2AADBD1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7A9E6E5-FC45-4567-AF53-B8C189F0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61DC68F-D6E6-49D4-B833-4DA366D5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5EB36C-F88E-4147-B53E-646A546B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A7988C8E-0634-41CE-B4EB-F970E754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C407F9-A441-4948-A15C-E0FC08B5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D9694AA-CFE8-425B-9090-203D6AA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E8B1535-13FE-4DAD-9878-CB9692DB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A3B5CD8-1DDA-4923-A9A7-6FD85DBF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B4E96F4-DBC0-45B9-B33C-1EB85C96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131AA25-47CC-4C9E-9883-5B9DC2C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EE28250-779B-4470-8CAA-07990E1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776EF968-A527-4767-9AAB-ACD85A8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86DB7FA-4AFC-4C9E-900C-6FB09DED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5D2E087D-4CA9-4325-B639-7A43DD6E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A7EBE52-B99C-4EAB-94AC-95180062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5A081-24E8-4139-B3CC-3F60A5AE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0FF3E1C-7B28-4DB8-92C0-B77E275C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F830F21-6F29-4BD2-BBBC-80EAE50C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645A449-0E99-4C3D-ACF6-1B51B597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C8043ED-1E38-44AB-8426-26106FEF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8A16A4D-496B-440C-805C-7B69699A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58A674A-2DDB-4699-89C1-E454779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79B85DD-AF35-4405-8D80-FCDDF50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9E44993E-045D-44B0-84EB-AD382947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AAD99C7-54A1-497A-8256-2C2E2E4F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9C05F483-3894-4EDF-80EE-E3EE703F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5CC46-B457-4E41-88E1-0102F954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A2AD350-39FD-4B42-A764-9ECFC227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C64D6B1-9E55-43AE-B2A5-D62E2535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3F890FF-9946-4DDB-A178-C7C2F626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78CCA65-1E37-47FA-BBE3-3BD4FA76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1FC4DFB-A9B5-4934-BEBD-CF20043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C1AAE33-81E3-4AD1-827C-07BF8AD1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A90A3F5-0A74-468E-9634-53D1F8B0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D331E12-CF10-47BC-AA6E-D5A39DF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0ED0D88-9AAE-49AF-9860-D7F9D3D2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433A0DF-759D-44D4-8E69-A04820E7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413D3-C525-4DF3-96B6-B1684427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A51C744-F534-4E44-8E0F-8BA0841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05ED1E1-4600-48BB-911D-D19DF5D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C1425B2-D044-4F1A-9702-F4DC727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C751253-7C5F-458C-A82A-C27ADE72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4769B72-DE61-428B-9A68-0DDC268C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24D70DB9-E770-4C9C-B0D3-2ABBBEB7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DE3D0B2-C4F3-410A-AC47-E5CCC811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E6D260C-10B1-4EFC-9D5B-F57D368D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7AB4A78-992E-4F42-8FDB-B531D211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63DF973-26A2-48A4-BFEF-469CB2CC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10213-18F8-4112-A4CA-5B51D2F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F85711E-8F59-4010-A084-5074BD8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E15155A-4509-4BA7-8120-88C581E2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BFE9C93-CC99-4FC9-88FD-EE05429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B699667-1D72-4A42-9EE4-03085B5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E333D2AC-83A9-4799-A96B-AC18AA90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4F1884E-9ECA-48F0-8DAD-DAA580B6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11D33AC-9BF6-492E-A9D0-9CC70444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C67EF58-3487-426F-9473-21399EAE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3770B386-0869-4837-A7AD-D6796B92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EE6DBCD-036B-4CB1-B6E3-8A5C460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6B7E-F9F5-4718-9473-6BE3ADBCE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DD5-6934-4DAD-B410-87D6C0BE3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 type="dt" idx="2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 type="ftr" idx="2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5"/>
          <p:cNvSpPr>
            <a:spLocks noGrp="1"/>
          </p:cNvSpPr>
          <p:nvPr>
            <p:ph type="sldNum" idx="2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F5FF-17A3-4244-B628-8AAAA0AB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 type="dt" idx="2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PlaceHolder 4"/>
          <p:cNvSpPr>
            <a:spLocks noGrp="1"/>
          </p:cNvSpPr>
          <p:nvPr>
            <p:ph type="ftr" idx="2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5"/>
          <p:cNvSpPr>
            <a:spLocks noGrp="1"/>
          </p:cNvSpPr>
          <p:nvPr>
            <p:ph type="sldNum" idx="2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3D11-FB7C-46D7-A39F-D01541A4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 type="dt" idx="2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PlaceHolder 4"/>
          <p:cNvSpPr>
            <a:spLocks noGrp="1"/>
          </p:cNvSpPr>
          <p:nvPr>
            <p:ph type="ftr" idx="2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5"/>
          <p:cNvSpPr>
            <a:spLocks noGrp="1"/>
          </p:cNvSpPr>
          <p:nvPr>
            <p:ph type="sldNum" idx="2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933D-8366-415F-9170-2272D7330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 type="dt" idx="2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PlaceHolder 4"/>
          <p:cNvSpPr>
            <a:spLocks noGrp="1"/>
          </p:cNvSpPr>
          <p:nvPr>
            <p:ph type="ftr" idx="2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5"/>
          <p:cNvSpPr>
            <a:spLocks noGrp="1"/>
          </p:cNvSpPr>
          <p:nvPr>
            <p:ph type="sldNum" idx="2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8858-BC16-4FCB-817D-72CFE5DCB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 type="dt" idx="2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PlaceHolder 4"/>
          <p:cNvSpPr>
            <a:spLocks noGrp="1"/>
          </p:cNvSpPr>
          <p:nvPr>
            <p:ph type="ftr" idx="2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5"/>
          <p:cNvSpPr>
            <a:spLocks noGrp="1"/>
          </p:cNvSpPr>
          <p:nvPr>
            <p:ph type="sldNum" idx="2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68E8-BFBF-49B1-ACC8-B5EE02476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 type="dt" idx="2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 type="ftr" idx="2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5"/>
          <p:cNvSpPr>
            <a:spLocks noGrp="1"/>
          </p:cNvSpPr>
          <p:nvPr>
            <p:ph type="sldNum" idx="2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C776-87A2-4CC9-8A2B-039A49F78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 type="dt" idx="2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 type="ftr" idx="2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5"/>
          <p:cNvSpPr>
            <a:spLocks noGrp="1"/>
          </p:cNvSpPr>
          <p:nvPr>
            <p:ph type="sldNum" idx="2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79F5-A265-4668-8C62-77C0F235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 type="dt" idx="2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 type="ftr" idx="2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PlaceHolder 5"/>
          <p:cNvSpPr>
            <a:spLocks noGrp="1"/>
          </p:cNvSpPr>
          <p:nvPr>
            <p:ph type="sldNum" idx="2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E934-714B-47F4-B0B3-2CA4AD72A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 type="dt" idx="2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PlaceHolder 4"/>
          <p:cNvSpPr>
            <a:spLocks noGrp="1"/>
          </p:cNvSpPr>
          <p:nvPr>
            <p:ph type="ftr" idx="2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5"/>
          <p:cNvSpPr>
            <a:spLocks noGrp="1"/>
          </p:cNvSpPr>
          <p:nvPr>
            <p:ph type="sldNum" idx="2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7D3B-495D-4E0C-AF7D-1E5211823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41E5-A8AB-4D1C-8BCB-D3E788815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 type="dt" idx="2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 type="ftr" idx="2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5"/>
          <p:cNvSpPr>
            <a:spLocks noGrp="1"/>
          </p:cNvSpPr>
          <p:nvPr>
            <p:ph type="sldNum" idx="2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A3C6-7E50-4144-B28A-8198AEEE2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 type="dt" idx="2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PlaceHolder 4"/>
          <p:cNvSpPr>
            <a:spLocks noGrp="1"/>
          </p:cNvSpPr>
          <p:nvPr>
            <p:ph type="ftr" idx="2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5"/>
          <p:cNvSpPr>
            <a:spLocks noGrp="1"/>
          </p:cNvSpPr>
          <p:nvPr>
            <p:ph type="sldNum" idx="2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71B7-EA59-47FD-8B5B-B065D4B6B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 type="dt" idx="2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 type="ftr" idx="2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 type="sldNum" idx="2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619-C869-4559-9A85-32505190A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 type="dt" idx="2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 type="ftr" idx="2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 type="sldNum" idx="2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AEE6-A60C-423A-A422-072DDBC62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 type="dt" idx="2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 type="ftr" idx="2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 type="sldNum" idx="2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BAAC-B98D-48F5-925E-7123EB673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 type="dt" idx="2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 type="ftr" idx="2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 type="sldNum" idx="2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CDFF-1FEE-44A0-83D7-8447BF85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dt" idx="2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 type="ftr" idx="2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 type="sldNum" idx="2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BFD-D1EC-4158-AC92-4AAAD7E32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 type="dt" idx="3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 type="ftr" idx="3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 type="sldNum" idx="3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C1EE-4626-4A58-BB51-F88A3FC06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 type="dt" idx="3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 type="ftr" idx="3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 type="sldNum" idx="3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669C-C561-4926-B2D4-FF9480E06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 type="dt" idx="3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 type="ftr" idx="3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 type="sldNum" idx="3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3DDF-39D6-4329-A0C6-E854A8DAA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 type="dt" idx="3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 type="ftr" idx="3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 type="sldNum" idx="3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3199-73D8-4472-9ECD-20AC6CA2A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 type="dt" idx="3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 type="ftr" idx="3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 type="sldNum" idx="3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C4F-885D-487A-8BFC-1C15E91A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4214-7137-45E9-8521-CCBA5ED33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40B-0710-4416-9E71-A3A21CB9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C5D-DEDF-4953-BFAC-9066C7889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3EC7-DF97-4175-AC23-66426DA53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1F35-AA9B-4C5B-935B-D03515002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DA20-BCA2-47D7-B8D5-6987AF2B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8D6-48FA-4BD2-86DC-0A856E7E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4228-C899-402B-AB2A-6E8ED3F67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7715-8722-4BD4-97E7-7CD6143EE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B9DA-7B6A-4DF7-852A-3511A922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27A6-6CBB-40A2-99D4-099B7D447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6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6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ftr" idx="6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6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6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6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ftr" idx="6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6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7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ftr" idx="7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FCE-AA77-46E8-B707-503586A9311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AAD-8E55-402A-93B0-BB34FB5F8E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8F70-5240-4E74-BE49-F296A6C50E4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1C71-F0AD-470B-B1CD-5BAAB03237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86DD-AFEC-43A2-9624-EE2DBB9D58A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6666-1ADB-45C7-8F74-4384984BC8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4E2B-C916-4F05-9595-FB1BCCF0FDE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6861-1250-4AA3-9D93-1A7FA22E7F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A63F-AE71-4F0E-9FF9-41135917297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F4A-5861-44D4-B893-415796C0CD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07C9-497D-4D79-9DA5-4599DFC992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EC47-FC9D-4FA2-B52E-67AE423E1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7FB7-2E19-4B94-B628-BCC2503304D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0E97-D257-4582-AAB7-33E92459BE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9A7E-1935-4A59-B72A-9B656BAE466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7BA-7401-4525-B9FF-6167574972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A63-3E01-45A5-BF6C-2D8BA050633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2E32-7144-424D-A6FA-01845E8B42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10F4-869F-4651-A46F-363C0C38C2E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E210-EE18-4226-911B-EB43B329FE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10DC-83B3-49A7-B43F-699CDF48BCF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05C0-25E6-4571-9ABD-45B6FA2682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7ABF-D391-46DA-A0EF-FA313F0AD30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5E8C-6E4A-4B4B-856E-EAF3774EAF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15BC-D522-41CE-8485-E5ADC24B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D38-7011-4320-B914-D9BE6AF3F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68CB-C4AA-42B2-A7D5-C307F2D8D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BBAD-76B5-4FF7-8C42-03B628651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5FDB-CB5A-4C99-B105-06F549704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3323-8C9A-4EAE-B1CB-8D5961DF1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88E6-D20F-4A47-968B-283C0F51B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3944-4B0B-4653-976E-18C0FFE62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1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1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03C6-07D2-42A4-AA5D-E908C2AC1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1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1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EED4-3436-4519-8237-D6D11F6E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5974-E778-49D4-8564-F2ECBB3FB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 type="dt" idx="1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 type="sldNum" idx="1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C54D-26D0-4CEF-868A-BB62F56CC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dt" idx="1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8A7-C778-472A-B660-66689AF18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198B-EE6F-4156-8D09-57A0D5295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ACC3-C293-4B48-8649-33D842F8F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06C2-F8F3-4C3F-A8AB-D6229DE7B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C0D8-E896-447E-A741-56EFA147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2247-AD07-49FA-8F8E-C77D16797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9A5F-C22F-44C1-A009-DDCE4883B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 type="dt" idx="1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 type="ftr" idx="1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 type="sldNum" idx="1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D4D-5802-4F27-A5B9-9455E85F9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5CB5-9825-4F13-AD39-CAD8BC354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596C-194D-4345-8173-6E274D07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F150-641C-4907-85A5-FC6C4C734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D009-C3AB-47E6-B824-DE5561EBA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 type="dt" idx="1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 type="ftr" idx="1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 type="sldNum" idx="1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4550-C32D-4C83-A8D3-7B1FE5DEB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 type="dt" idx="1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 type="ftr" idx="1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5"/>
          <p:cNvSpPr>
            <a:spLocks noGrp="1"/>
          </p:cNvSpPr>
          <p:nvPr>
            <p:ph type="sldNum" idx="1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3962-6FF7-4CF7-AF58-FD1F9C28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 type="dt" idx="1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 type="sldNum" idx="1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AD3F-9C90-4F78-9639-77539B886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 type="dt" idx="1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 type="ftr" idx="1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 type="sldNum" idx="1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978-8E2E-4ADC-B77F-416ABF26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 type="dt" idx="1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5"/>
          <p:cNvSpPr>
            <a:spLocks noGrp="1"/>
          </p:cNvSpPr>
          <p:nvPr>
            <p:ph type="sldNum" idx="1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966-53B3-4F62-BCC5-78DC932F8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 type="dt" idx="1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 type="ftr" idx="1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5"/>
          <p:cNvSpPr>
            <a:spLocks noGrp="1"/>
          </p:cNvSpPr>
          <p:nvPr>
            <p:ph type="sldNum" idx="1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381-1BC3-4935-B2CD-15663F621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 type="dt" idx="1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 type="sldNum" idx="1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3B2-1E0F-431A-966C-486D1ACB6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 type="dt" idx="1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 type="ftr" idx="1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5"/>
          <p:cNvSpPr>
            <a:spLocks noGrp="1"/>
          </p:cNvSpPr>
          <p:nvPr>
            <p:ph type="sldNum" idx="1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1C5B-357D-4612-84A6-BF769B500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dt" idx="1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 type="sldNum" idx="1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69D0-62F9-4BF8-A195-941B1E8E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6C2D-D617-40B7-9E69-3E134403E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 type="dt" idx="1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 type="ftr" idx="1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 type="sldNum" idx="1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9508-5292-485B-9FD1-6F0AFF5B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 type="dt" idx="1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5"/>
          <p:cNvSpPr>
            <a:spLocks noGrp="1"/>
          </p:cNvSpPr>
          <p:nvPr>
            <p:ph type="sldNum" idx="2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0179-0C29-4106-8234-501DA31CB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 type="dt" idx="2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 type="sldNum" idx="2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308C-AC3A-4C1E-BF15-BCE808B1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 type="dt" idx="2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 type="ftr" idx="2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5"/>
          <p:cNvSpPr>
            <a:spLocks noGrp="1"/>
          </p:cNvSpPr>
          <p:nvPr>
            <p:ph type="sldNum" idx="2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1A43-15F3-4069-BDBB-76712FBA6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dt" idx="20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 type="ftr" idx="2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5"/>
          <p:cNvSpPr>
            <a:spLocks noGrp="1"/>
          </p:cNvSpPr>
          <p:nvPr>
            <p:ph type="sldNum" idx="20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DCC-6BD0-4CFE-9B9A-4AB0BAEE8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 type="dt" idx="2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 type="ftr" idx="2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5"/>
          <p:cNvSpPr>
            <a:spLocks noGrp="1"/>
          </p:cNvSpPr>
          <p:nvPr>
            <p:ph type="sldNum" idx="2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CD31-CC0F-42DD-972F-4A49F7EEC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 type="dt" idx="2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 type="ftr" idx="2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5"/>
          <p:cNvSpPr>
            <a:spLocks noGrp="1"/>
          </p:cNvSpPr>
          <p:nvPr>
            <p:ph type="sldNum" idx="2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9FDE-3F20-489B-9FCA-74C0546D8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 type="dt" idx="2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 type="ftr" idx="2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5"/>
          <p:cNvSpPr>
            <a:spLocks noGrp="1"/>
          </p:cNvSpPr>
          <p:nvPr>
            <p:ph type="sldNum" idx="2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C119-87AC-48E4-9D74-361D081BB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 type="dt" idx="2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 type="ftr" idx="2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 type="sldNum" idx="2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D501-485C-4462-98B3-093454DC3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 type="dt" idx="2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 type="ftr" idx="2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5"/>
          <p:cNvSpPr>
            <a:spLocks noGrp="1"/>
          </p:cNvSpPr>
          <p:nvPr>
            <p:ph type="sldNum" idx="2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0D3-DA80-4F1D-8F61-C9B48545E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3BA9-CBC5-4F08-B3D2-CD8EFBB4F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 type="dt" idx="2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 type="ftr" idx="2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 type="sldNum" idx="2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B359-4651-4C51-8E85-6189CB405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52" name="PlaceHolder 3"/>
          <p:cNvSpPr>
            <a:spLocks noGrp="1"/>
          </p:cNvSpPr>
          <p:nvPr>
            <p:ph type="dt" idx="2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4"/>
          <p:cNvSpPr>
            <a:spLocks noGrp="1"/>
          </p:cNvSpPr>
          <p:nvPr>
            <p:ph type="ftr" idx="2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5"/>
          <p:cNvSpPr>
            <a:spLocks noGrp="1"/>
          </p:cNvSpPr>
          <p:nvPr>
            <p:ph type="sldNum" idx="2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02F2-F7AF-4F2A-8E38-FC5202C1E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 type="dt" idx="2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 type="ftr" idx="2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5"/>
          <p:cNvSpPr>
            <a:spLocks noGrp="1"/>
          </p:cNvSpPr>
          <p:nvPr>
            <p:ph type="sldNum" idx="2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2D30-46E1-41ED-B78D-31C38C099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dt" idx="2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ftr" idx="2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5"/>
          <p:cNvSpPr>
            <a:spLocks noGrp="1"/>
          </p:cNvSpPr>
          <p:nvPr>
            <p:ph type="sldNum" idx="2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413-C25B-4B88-8640-DBC3E8496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 type="dt" idx="2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 type="ftr" idx="2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5"/>
          <p:cNvSpPr>
            <a:spLocks noGrp="1"/>
          </p:cNvSpPr>
          <p:nvPr>
            <p:ph type="sldNum" idx="2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A067-0D41-43BA-9056-BCD50697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16" name="PlaceHolder 3"/>
          <p:cNvSpPr>
            <a:spLocks noGrp="1"/>
          </p:cNvSpPr>
          <p:nvPr>
            <p:ph type="dt" idx="2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4"/>
          <p:cNvSpPr>
            <a:spLocks noGrp="1"/>
          </p:cNvSpPr>
          <p:nvPr>
            <p:ph type="ftr" idx="2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5"/>
          <p:cNvSpPr>
            <a:spLocks noGrp="1"/>
          </p:cNvSpPr>
          <p:nvPr>
            <p:ph type="sldNum" idx="2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062B-C807-4976-A51E-970EA28B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57" name="PlaceHolder 3"/>
          <p:cNvSpPr>
            <a:spLocks noGrp="1"/>
          </p:cNvSpPr>
          <p:nvPr>
            <p:ph type="dt" idx="2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4"/>
          <p:cNvSpPr>
            <a:spLocks noGrp="1"/>
          </p:cNvSpPr>
          <p:nvPr>
            <p:ph type="ftr" idx="2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5"/>
          <p:cNvSpPr>
            <a:spLocks noGrp="1"/>
          </p:cNvSpPr>
          <p:nvPr>
            <p:ph type="sldNum" idx="2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E580-E13C-4CAB-8046-F29537340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 type="dt" idx="2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4"/>
          <p:cNvSpPr>
            <a:spLocks noGrp="1"/>
          </p:cNvSpPr>
          <p:nvPr>
            <p:ph type="ftr" idx="2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5"/>
          <p:cNvSpPr>
            <a:spLocks noGrp="1"/>
          </p:cNvSpPr>
          <p:nvPr>
            <p:ph type="sldNum" idx="2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5CF5-5F6F-4146-96F3-C50FF9BEE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 type="dt" idx="2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 type="ftr" idx="2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 type="sldNum" idx="2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99B2-BB7A-4C40-80E7-B3928DEA2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8" name="Rectangle 2"/>
          <p:cNvGrpSpPr/>
          <p:nvPr/>
        </p:nvGrpSpPr>
        <p:grpSpPr>
          <a:xfrm>
            <a:off x="566640" y="36360"/>
            <a:ext cx="7712280" cy="2256120"/>
            <a:chOff x="566640" y="36360"/>
            <a:chExt cx="7712280" cy="2256120"/>
          </a:xfrm>
        </p:grpSpPr>
        <p:pic>
          <p:nvPicPr>
            <p:cNvPr id="503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36360"/>
              <a:ext cx="771228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0" name=""/>
            <p:cNvSpPr/>
            <p:nvPr/>
          </p:nvSpPr>
          <p:spPr>
            <a:xfrm>
              <a:off x="685800" y="228600"/>
              <a:ext cx="7467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Arial"/>
                </a:rPr>
                <a:t>Pregnancy, Placenta, Lactation and Labo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1" name="Picture 10" descr="http://images.wisegeek.com/uterus-depiction-with-fetus.jpg"/>
          <p:cNvPicPr/>
          <p:nvPr/>
        </p:nvPicPr>
        <p:blipFill>
          <a:blip r:embed="rId2"/>
          <a:srcRect l="-134" t="5882" r="3124" b="5882"/>
          <a:stretch/>
        </p:blipFill>
        <p:spPr>
          <a:xfrm>
            <a:off x="1752480" y="24382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1790640" y="-360"/>
            <a:ext cx="5562720" cy="75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5" name="Rectangle 1"/>
          <p:cNvSpPr/>
          <p:nvPr/>
        </p:nvSpPr>
        <p:spPr>
          <a:xfrm>
            <a:off x="304920" y="610200"/>
            <a:ext cx="8534160" cy="61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Progester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ed  from Corpus Luteum at 1st Trimester, after that from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hibits uterine contractions “Hormone of pregnancy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nd prevents spontaneous abor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 alveolar development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otes formation of mucus plug in cervical canal preventing  uterine cont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cidual re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1722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7" name="Rectangle 1"/>
          <p:cNvSpPr/>
          <p:nvPr/>
        </p:nvSpPr>
        <p:spPr>
          <a:xfrm>
            <a:off x="304920" y="572400"/>
            <a:ext cx="853416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- Human Chorionic Gonadotropin (HCG)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-li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ycoprot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u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e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us Luteum of pregn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increase its secretion of estrogen and progeste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timulat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ydig cel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estes of fetus to secre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o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ent of testes into scrotum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lopment of male sex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an be detect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days after fertilization a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in 2 week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sis of pregnanc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9" name="Rectangle 1"/>
          <p:cNvSpPr/>
          <p:nvPr/>
        </p:nvSpPr>
        <p:spPr>
          <a:xfrm>
            <a:off x="228600" y="101664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4- Placental Lactogen (Somatomammotropi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ed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eek of pregnancy. 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us luteum to secrete estrogen &amp; progester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luteotrophi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east develop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ammotrophi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growth and it inhibits glucose transport (inhibits insulin effect) i.e. similar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- Relax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secreted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enta and Corpus Lut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vic ligaments to help in proces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retion Rates of Placental 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767C-4D56-4008-802D-6F2088323F8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2" name="Picture 7" descr="20f30"/>
          <p:cNvPicPr/>
          <p:nvPr/>
        </p:nvPicPr>
        <p:blipFill>
          <a:blip r:embed="rId1"/>
          <a:stretch/>
        </p:blipFill>
        <p:spPr>
          <a:xfrm>
            <a:off x="914400" y="1224000"/>
            <a:ext cx="74674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4" name="Picture 2" descr="D:\my documents\SHERWOOD 7 LECTURES (2010)\Media\Image_Library\chapter20\20t5.jpg"/>
          <p:cNvPicPr/>
          <p:nvPr/>
        </p:nvPicPr>
        <p:blipFill>
          <a:blip r:embed="rId1"/>
          <a:srcRect l="0" t="2135" r="1606" b="2977"/>
          <a:stretch/>
        </p:blipFill>
        <p:spPr>
          <a:xfrm>
            <a:off x="31680" y="228600"/>
            <a:ext cx="8966160" cy="6477120"/>
          </a:xfrm>
          <a:prstGeom prst="rect">
            <a:avLst/>
          </a:prstGeom>
          <a:ln w="0">
            <a:noFill/>
          </a:ln>
        </p:spPr>
      </p:pic>
      <p:sp>
        <p:nvSpPr>
          <p:cNvPr id="50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4738-E2AC-4AA2-A23A-1D7F5E3B8FA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6" name="Rectangle 2"/>
          <p:cNvGrpSpPr/>
          <p:nvPr/>
        </p:nvGrpSpPr>
        <p:grpSpPr>
          <a:xfrm>
            <a:off x="792000" y="195120"/>
            <a:ext cx="7712280" cy="1243080"/>
            <a:chOff x="792000" y="195120"/>
            <a:chExt cx="7712280" cy="1243080"/>
          </a:xfrm>
        </p:grpSpPr>
        <p:pic>
          <p:nvPicPr>
            <p:cNvPr id="5077" name="Rectangle 2" descr=""/>
            <p:cNvPicPr/>
            <p:nvPr/>
          </p:nvPicPr>
          <p:blipFill>
            <a:blip r:embed="rId1"/>
            <a:stretch/>
          </p:blipFill>
          <p:spPr>
            <a:xfrm>
              <a:off x="792000" y="195120"/>
              <a:ext cx="771228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8" name=""/>
            <p:cNvSpPr/>
            <p:nvPr/>
          </p:nvSpPr>
          <p:spPr>
            <a:xfrm>
              <a:off x="914400" y="304920"/>
              <a:ext cx="7467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(=PARTURITION)</a:t>
              </a:r>
              <a:br>
                <a:rPr sz="3600"/>
              </a:b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9" name="Rectangle 1"/>
          <p:cNvSpPr/>
          <p:nvPr/>
        </p:nvSpPr>
        <p:spPr>
          <a:xfrm>
            <a:off x="228600" y="1224720"/>
            <a:ext cx="861048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Def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The process by which fetus is delivered from uterus after full term of gestation. About 280 d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40 week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fter last menstruation preceding conce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Suggested mechanis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1- Role of horm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Ratio of estrogens to progester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As  Estro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Proge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terine contr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↑ Estrogen to Progesterone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t late pregnanc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oxytocin recepto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initi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 by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0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1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2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3" name="Rectangle 1"/>
          <p:cNvSpPr/>
          <p:nvPr/>
        </p:nvSpPr>
        <p:spPr>
          <a:xfrm>
            <a:off x="304920" y="7995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- Oxytoc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uterine con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muscle response to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xytocin in hypophysectomized anim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prolonged lab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Rectangle 2"/>
          <p:cNvSpPr/>
          <p:nvPr/>
        </p:nvSpPr>
        <p:spPr>
          <a:xfrm>
            <a:off x="228600" y="2761200"/>
            <a:ext cx="853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Bookman Old Style"/>
                <a:ea typeface="SimSun"/>
              </a:rPr>
              <a:t>c- Fetal horm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y contractions of uter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pressure is exerted on head of fetus as a stress that stimulates fetal hypothalamus to rele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eleas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rom fetal anterior pituit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ucocortico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reted from adrenal corte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lac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gestero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↑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staglandi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5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6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7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8" name="Rectangle 1"/>
          <p:cNvSpPr/>
          <p:nvPr/>
        </p:nvSpPr>
        <p:spPr>
          <a:xfrm>
            <a:off x="304920" y="1075680"/>
            <a:ext cx="8610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Mechanical factors: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cervi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ntraction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downward descent of   baby’s he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stretch of cervix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contra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(+ve feed back mechanism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Rectangle 2"/>
          <p:cNvSpPr/>
          <p:nvPr/>
        </p:nvSpPr>
        <p:spPr>
          <a:xfrm>
            <a:off x="304920" y="38170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Role of abdominal musc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- During labor, abdominal muscles contract to aid delivery by ↑ intra-abdominal pressure (voluntary or reflexely by impulses from birth cana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0" name="Rectangle 2"/>
          <p:cNvGrpSpPr/>
          <p:nvPr/>
        </p:nvGrpSpPr>
        <p:grpSpPr>
          <a:xfrm>
            <a:off x="676440" y="-401760"/>
            <a:ext cx="8248320" cy="2211480"/>
            <a:chOff x="676440" y="-401760"/>
            <a:chExt cx="8248320" cy="2211480"/>
          </a:xfrm>
        </p:grpSpPr>
        <p:pic>
          <p:nvPicPr>
            <p:cNvPr id="5091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-401760"/>
              <a:ext cx="8248320" cy="22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2" name=""/>
            <p:cNvSpPr/>
            <p:nvPr/>
          </p:nvSpPr>
          <p:spPr>
            <a:xfrm>
              <a:off x="838080" y="0"/>
              <a:ext cx="762012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HORMONAL CONTROL OF LACTATION </a:t>
              </a:r>
              <a:br>
                <a:rPr sz="3200"/>
              </a:b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3" name="Rectangle 6"/>
          <p:cNvSpPr/>
          <p:nvPr/>
        </p:nvSpPr>
        <p:spPr>
          <a:xfrm>
            <a:off x="228600" y="12970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ion of milk produ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lactogenesis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under control of anterior pitui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rolactin (LT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e milk production is established about two days after delive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lactation is dependent on suckling which initiat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ilk ejection refl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maintains prolactin se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ntinued suckling, lactation can go on for years, and during this time, the raised prolactin levels, to some extent, depress ovulation and fert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4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5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6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7" name="Rectangle 1"/>
          <p:cNvSpPr/>
          <p:nvPr/>
        </p:nvSpPr>
        <p:spPr>
          <a:xfrm>
            <a:off x="457200" y="160740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1- Estr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olifer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system and nip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increas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lood flow to breast. It is responsible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gmentation of areo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Progester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formation of mammary gl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in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2" name="Rectangle 2"/>
          <p:cNvGrpSpPr/>
          <p:nvPr/>
        </p:nvGrpSpPr>
        <p:grpSpPr>
          <a:xfrm>
            <a:off x="1481040" y="-36360"/>
            <a:ext cx="6340680" cy="1315800"/>
            <a:chOff x="1481040" y="-36360"/>
            <a:chExt cx="6340680" cy="1315800"/>
          </a:xfrm>
        </p:grpSpPr>
        <p:pic>
          <p:nvPicPr>
            <p:cNvPr id="5043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36360"/>
              <a:ext cx="63406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4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5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fine Fertilization and impl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umerate the placental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the hormones affecting mamm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dentify the role of prolactin in la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 the cause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ynaecoma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scrib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echanism of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8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9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0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1" name="Rectangle 1"/>
          <p:cNvSpPr/>
          <p:nvPr/>
        </p:nvSpPr>
        <p:spPr>
          <a:xfrm>
            <a:off x="533520" y="16041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Prolact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reted by anterior pituitary and place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timulates formation and secretion of milk by ac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4- Placental Lact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breast develop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2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103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4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5" name="Rectangle 1"/>
          <p:cNvSpPr/>
          <p:nvPr/>
        </p:nvSpPr>
        <p:spPr>
          <a:xfrm>
            <a:off x="380880" y="1698480"/>
            <a:ext cx="8534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5- Oxytoc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queezes milk from acini (=milk ej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6- Adrenal corticoids, insulin &amp; Thyrox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ed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tabo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ctivities of the gland, no specific role in mil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7- Growth horm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cessary for mammary gland development in response to other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6" name="Rectangle 2"/>
          <p:cNvGrpSpPr/>
          <p:nvPr/>
        </p:nvGrpSpPr>
        <p:grpSpPr>
          <a:xfrm>
            <a:off x="1481040" y="-42840"/>
            <a:ext cx="6340680" cy="1311120"/>
            <a:chOff x="1481040" y="-42840"/>
            <a:chExt cx="6340680" cy="1311120"/>
          </a:xfrm>
        </p:grpSpPr>
        <p:pic>
          <p:nvPicPr>
            <p:cNvPr id="5107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42840"/>
              <a:ext cx="63406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8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Bookman Old Style"/>
                  <a:ea typeface="SimSun"/>
                </a:rPr>
                <a:t>GYNAECOMASTIA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9" name="Rectangle 1"/>
          <p:cNvSpPr/>
          <p:nvPr/>
        </p:nvSpPr>
        <p:spPr>
          <a:xfrm>
            <a:off x="152280" y="138780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minine enlargement of breast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t Puberty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(physiological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ys develop a tender subareolar plaque (1-2 cm) which shrinks slowly and never persists for more than few years (Unknown cau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Adult (pathological):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imary testic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Li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ronchogenic carcinom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docrine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0" name="Picture 1" descr="11146200_962857803745216_65688347974238369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1" name="Rectangle 1"/>
          <p:cNvSpPr/>
          <p:nvPr/>
        </p:nvSpPr>
        <p:spPr>
          <a:xfrm>
            <a:off x="228600" y="7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العلم نور</a:t>
            </a:r>
            <a:r>
              <a:rPr b="1" i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ونور الله لا يهدى لعاص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Fertiliz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rmal site of fertilization is the ampulla of oviduct at the upper  one third of ovi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ust occur within 24 hours after ov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iability of ovum is 24 h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rms usually survive about 48 hours but can survive up to 5 days in female reproductive 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perm deposited in vagina travel through cervical canal, uterus, and to upper one third of ovi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0D1B-8F8F-45AE-96D7-778D6F5AB81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9" name="Picture 2" descr="D:\my documents\SHERWOOD 7 LECTURES (2010)\Media\Image_Library\chapter20\20f25.jpg"/>
          <p:cNvPicPr/>
          <p:nvPr/>
        </p:nvPicPr>
        <p:blipFill>
          <a:blip r:embed="rId1"/>
          <a:srcRect l="0" t="0" r="0" b="3160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50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B0AB-7080-45C8-BEFE-91AF6ADDE2C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ertiliz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304560" y="-92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haroni"/>
                <a:ea typeface="Arial"/>
              </a:rPr>
              <a:t>Fertilization &amp; Implant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ertilized ovum (zygote) having 46 chromosomes divides mitotically. Within a week, zygote grows and differentiates in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lastocy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apable of implant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blastocyst implants in the posterior  wall of uterus on 6-7 th day after fertiliz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blastocyst has inner cell mass that becomes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mbry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and outer cellular layer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ophoblast (= fetal portion of placenta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t site of implantation, Endometrium transforms i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ecidual layer (= maternal portion of placenta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C1C-F5F9-48F9-97B7-EFAD34273E4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Early Stages of Development from Fertilization to Impla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9FB-BE88-4025-B317-56B5A408391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7" name="Picture 8" descr="20f26"/>
          <p:cNvPicPr/>
          <p:nvPr/>
        </p:nvPicPr>
        <p:blipFill>
          <a:blip r:embed="rId1"/>
          <a:stretch/>
        </p:blipFill>
        <p:spPr>
          <a:xfrm>
            <a:off x="228600" y="1359000"/>
            <a:ext cx="8686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FUNCTIONS OF PLACEN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"/>
          <p:cNvSpPr txBox="1"/>
          <p:nvPr/>
        </p:nvSpPr>
        <p:spPr>
          <a:xfrm>
            <a:off x="304920" y="12952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centa performs the functions of Digestive system, Respiratory system and Kidney for the fet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Nutrition and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 to fetus from maternal blood across the placental barr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s as transient, complex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d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rgan that secretes essential pregnancy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Human chorionic gonadotropin (HC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Progeste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Human Chorionic Somatomammotrop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606F-78DA-4AAB-8ABC-B15E1D72DAD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"/>
          <p:cNvSpPr txBox="1"/>
          <p:nvPr/>
        </p:nvSpPr>
        <p:spPr>
          <a:xfrm>
            <a:off x="609480" y="1828440"/>
            <a:ext cx="7848720" cy="19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eorgia"/>
              </a:rPr>
              <a:t>Placental hormones</a:t>
            </a:r>
            <a:endParaRPr b="0" lang="en-US" sz="54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3" name="Rectangle 1"/>
          <p:cNvSpPr/>
          <p:nvPr/>
        </p:nvSpPr>
        <p:spPr>
          <a:xfrm>
            <a:off x="295200" y="1193760"/>
            <a:ext cx="83059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centa secretes hormones for maintaining pregnancy and preparing mother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bor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c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1- Estrog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ed from Corpus Luteum at 1st trimester, After that Placenta secretes Estri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omet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ing uterine strength for partu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otes developm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lar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of female external genitalia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l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acroiliac joint and symphysis pubis ligaments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Jihan Badawi</cp:lastModifiedBy>
  <dcterms:modified xsi:type="dcterms:W3CDTF">2016-04-04T06:50:20Z</dcterms:modified>
  <cp:revision>100</cp:revision>
  <dc:subject/>
  <dc:title>Slide 1</dc:title>
</cp:coreProperties>
</file>